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3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  <p:sldId id="314" r:id="rId79"/>
    <p:sldId id="315" r:id="rId80"/>
    <p:sldId id="316" r:id="rId81"/>
    <p:sldId id="317" r:id="rId82"/>
    <p:sldId id="318" r:id="rId83"/>
    <p:sldId id="319" r:id="rId84"/>
    <p:sldId id="320" r:id="rId85"/>
    <p:sldId id="321" r:id="rId86"/>
    <p:sldId id="322" r:id="rId87"/>
    <p:sldId id="323" r:id="rId88"/>
    <p:sldId id="324" r:id="rId89"/>
    <p:sldId id="325" r:id="rId90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slide" Target="slides/slide59.xml"/><Relationship Id="rId80" Type="http://schemas.openxmlformats.org/officeDocument/2006/relationships/slide" Target="slides/slide60.xml"/><Relationship Id="rId81" Type="http://schemas.openxmlformats.org/officeDocument/2006/relationships/slide" Target="slides/slide61.xml"/><Relationship Id="rId82" Type="http://schemas.openxmlformats.org/officeDocument/2006/relationships/slide" Target="slides/slide62.xml"/><Relationship Id="rId83" Type="http://schemas.openxmlformats.org/officeDocument/2006/relationships/slide" Target="slides/slide63.xml"/><Relationship Id="rId84" Type="http://schemas.openxmlformats.org/officeDocument/2006/relationships/slide" Target="slides/slide64.xml"/><Relationship Id="rId85" Type="http://schemas.openxmlformats.org/officeDocument/2006/relationships/slide" Target="slides/slide65.xml"/><Relationship Id="rId86" Type="http://schemas.openxmlformats.org/officeDocument/2006/relationships/slide" Target="slides/slide66.xml"/><Relationship Id="rId87" Type="http://schemas.openxmlformats.org/officeDocument/2006/relationships/slide" Target="slides/slide67.xml"/><Relationship Id="rId88" Type="http://schemas.openxmlformats.org/officeDocument/2006/relationships/slide" Target="slides/slide68.xml"/><Relationship Id="rId89" Type="http://schemas.openxmlformats.org/officeDocument/2006/relationships/slide" Target="slides/slide69.xml"/><Relationship Id="rId90" Type="http://schemas.openxmlformats.org/officeDocument/2006/relationships/slide" Target="slides/slide70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113162F-A330-499B-A310-9322C2FBBDC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986437E-FABD-45CC-8B15-E4BAADC4296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4597BD1-4A8E-4CF0-A2EF-23A1962CB4E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E7FB1-4688-417A-BAC2-4BBBA7BC4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97F2-AAD5-4B2C-A4C7-87FB83BFC95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4D7C2-8518-4C71-A2BB-A60D8C48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81FC2-027A-4E26-9F57-D0A7CACB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C065C-0133-4B5E-8E46-3AE9B3FC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A06B7-0DEA-49A0-8E03-C6991E3C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4AE40-9D4D-416D-B11F-B965FDFF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0B87D-BAA7-4CF9-863E-97A42886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B30F8-4FE3-47CE-AEDD-7424B6BC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90FB4-6F0A-494A-A411-C5176603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4A3F1-0DAB-4F19-B829-BAA50C23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88292-1B92-40A2-A276-F52C9623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8C704-CAD8-4CF3-BF0A-8025808E19F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0F042-8513-4415-8DCD-B03D28DA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C6AA7-4480-4D19-AE84-6FAA7C26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F8DCB-75F6-40F4-90B1-C7650DB6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0BCBB-C88B-4C2C-A373-F7247924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76E17-CC15-47EC-B9E3-685860D0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0F3DC-B5EC-46F2-9D1C-813860F0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5A3F1-1957-421D-A00C-FD0EEC67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C5B4D-875C-4542-8B8E-9A4C1615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32CFA-C023-4ACD-BFC1-E9B75DEE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F1003-A6E9-4AD5-8F6D-88101BA7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5A9C-4AC6-4906-8DB9-C8266382143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45148-6D24-4B49-86F6-ED564110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873D9-DCDE-47C0-93E6-AAF47A4F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84E62-C4BA-493F-909E-148697AB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193D8-C972-479F-A008-3DBA66C7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55E08-BAD4-42D4-B708-08921D10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B1210-BA41-4DAA-9A44-ED1DB0B1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E2412-8599-458C-B12C-1D189976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37D8F-F8A4-406D-BF15-47123EE7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E2D51-5E04-4A19-88E3-56AA250D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856BE-F65D-4D7E-8279-03373D5A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5654F-0163-4857-8888-CDA9BE83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6F129-7125-473B-A80F-40CEAC31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3D4E6-1E7E-4733-AD1E-1B03F2C5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0F3AA-93A8-4293-8F05-A494035B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9A1D1-4021-4C7D-85E4-31CB5DE5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DA909-BA5B-4D69-86FB-01550500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FE6CB-3DD7-4D9A-B2DA-8B73549D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566BF-D80C-473F-AA5C-A7FDC969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ACD5B-9E00-479D-A337-D1F585FB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F89D5-1D03-4D9B-9330-D734FBDF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1098D-16D1-4A19-8AC7-316A10ED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51076-9355-4C53-AB12-D22FC590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24D13-2BBB-488C-BB3C-3549C66F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FC816-D0CD-493B-A7A6-68EEEC67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9EE5F-210C-4AC3-900E-FCA03F63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E96F3-ECEA-42DF-8CA3-260CF6C1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B7C4F-06D5-4877-811A-8313B655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6C81F-2688-48BF-A96A-1C881CE6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98040-F32B-471A-9EC8-EFAD879B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08B08-E56E-402D-B22B-A8F1DA41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67FAC-50A5-4602-9B1D-C82E6652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C851B-485F-497C-92A3-CD2AB7D2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33556-D6A0-4231-A4D3-24BAB22D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6E5B3-EFA0-4517-982D-32B567A3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280C9-2618-44E3-8F12-95CC7E2A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14C1A-C9F9-45FE-B38F-2ECA65BA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05373-DA9E-48D7-98B8-0FF3B852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D4F16-C6B3-4DF6-A19D-E3B641E5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F0AE7-500E-4712-BB81-C3680968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4FEB9-5D76-44A9-9332-B8E88C14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62005-205C-4343-9E7F-2DA44784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1D859-42FF-4FDE-B150-2F48C5B9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A0B51-C8F9-4329-9EB4-B0861AEE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AD968-371C-4677-81C2-CE9C81D6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DA0C2-BF3E-40D1-995C-DF4469B5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A654B-8F9D-4DA3-B0DF-E1DD9CE2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62825-C824-47FB-BD43-B807668D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10683-7D31-4871-AF99-AEBE0994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4E0E9-FFF4-4005-AC94-4229DAF1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AFE3D-1EB4-46B3-9A9C-5413243C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1C382-634E-4512-90EE-34E10EEC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CB0F3-F773-4820-AAC1-372D47B7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C923C-0D3B-446E-9A86-51E0D9BC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68812-386A-4FF2-87BF-61636BEA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CC899-3FE4-48B8-A2E8-FAE04106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7579A-E9A9-4070-884B-016F3052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3C405-21A9-41E1-B948-F660F5F2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44E19-8F85-43D2-B914-B261FB42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E1C79-A0FD-45F9-B893-DB49184A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508DD-C069-4834-8E13-DE9D588A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69ADA-DDAB-4EAD-BFD8-2F457AA7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CECA3-B6F9-4730-AA03-FF82C9DA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C089B-1E50-4DDA-AFBC-741B2C36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7ECDB-7C7C-4F9C-B3AE-EA317D78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13296-92BC-4C86-8889-D422294C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F83BA-90F0-4D65-9136-E1C6E5F3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DC379-2EB3-4C4C-BEAE-340F6F71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954D3-98C9-44D5-B3BB-AF26636F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47364D-B6B5-4B1C-89F5-427AB5CA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4FB61-33F9-4AFD-9A55-171AC332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86F12-1862-4C9D-9F1B-FE7B37D4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16115C-AEE8-4F6D-8428-5C5AD8BF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FDEA7-4582-4DE0-BB34-30E75F01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1558E-E7ED-45AB-A33C-0D4477C3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5244EC-BF9A-43F0-B82C-C7540F03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8E19FF-9FF6-4AD8-93A8-5C9FBAAF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63A1A-FF41-4ACA-A278-D74BFF7D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18FFB-0CC1-405B-A711-95827322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BFCEC6-5E2A-4B63-9E2E-25EBB133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26A1E-272D-4FE6-B686-7018F9F5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6DEC-19F8-4A22-A0C7-142536D4F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162FD2-C4EC-4998-898B-B433D563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73AF0-D54F-457E-A4F6-20769458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27020-0602-480E-8485-D4370F8C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C7272E-89E9-4A6C-AA9F-232976CD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3B61C-6FC4-44FE-A715-1A54DDB9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78D2B3-C38A-4961-9377-0D0B9EC7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2BAE20-F88D-48B9-963A-34D8466C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54D30-53AE-4D3D-BA81-FFBB08A7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DCF7E7-0CEC-4AAD-A532-358810DD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E1ED30-5703-4BAD-B334-044C87B4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852D2-7607-4CC2-87E6-71992E6F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01CCF8-E062-4DE7-956D-2D9C3A4E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180DEC-41AC-45E6-BF40-4A5608CE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5761C-7445-4CAF-8A90-D920EA0F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16FFAC-A5DC-4730-ACB0-29CFE808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5ED943-2ED5-4154-A113-690DCBF4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EA2AD-9C52-4598-85AA-B689B3C53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ACBDA-054F-4A60-BE71-18BF4EC5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7DDE3-A894-483E-BADF-9AF96FA1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64F46-15D2-4EF7-A43E-AA4706EE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D7D3C-6681-4853-95C1-C12899C9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13EF2-C474-44AA-AEF6-FD31ADCA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1F04-DA6C-45EF-9210-6636420B84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E9035-EEA9-4B56-8D4D-5255E68D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15C90-5D6A-42C8-94D0-30D655A0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8E73E-3B47-4FC0-9490-919A0CD8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99B71-B1D2-4D2D-A5B5-E19EE2AA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8B8C6-E8EC-4DAA-9EE8-A10368E6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3C5B3-4C31-4A87-93C9-9C518E73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ADF69-E770-4B73-B80B-A249AF20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8268E-BD9F-41E0-AE9B-1399CBD1ACD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13F3E-EB9B-4771-9838-787ABD65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A4F4-C8D6-4655-855E-EA33F017FB8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00A57-17C4-4661-902F-262F01AF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AE315-6426-475B-A4B6-A5CB8300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68609-25F6-4167-B16D-F6B9A1D0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01E57-F028-453C-8634-ABDEC8AB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1BE65-126A-43E0-A508-988A4BFF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C2E5A-57DD-450B-AFCA-4BCF8997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79798-0FD3-4FA5-A3E2-3BBF9786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F078A-4681-439E-9594-CAEAF004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E6F66-6A55-4F16-8D0A-C0B285E4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CD1FE-9E3F-4848-8978-446A84F0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1AAF9-AC0D-4940-AAAB-12AC102259F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5A38A-4A82-4ED7-97E1-3CF55BB0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1CDBA-1C89-416D-BF7F-AB07337193B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A778E0-B46A-4837-A675-ACC65DADADF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BAAD08-B2D7-4A88-AA7F-5A28C0E64FF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00960E-35C2-4D71-963B-40D527EB05C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50278F-623E-4BCA-B568-332F92E3DE8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5EA5D9-E811-4401-B343-75594D7F6C5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0E6174-937F-41E6-AC4B-FF095BB2B47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811515-6C28-4398-BADB-D0D0BDB5E62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9449C1-F054-4838-A7B4-F86D4FE74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1C4E-A4AB-4F76-B10E-F6F207B4F1E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B7367-C349-4834-9A79-D766EA3266F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02F971-2BCA-48B2-9FC4-DCB7D4A8D4B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FDB33A-769A-42DD-AF24-6E9DDA04066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CB4DE-AA33-46A2-9BA7-41C207C5158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2B4BF-D2D1-4982-A07B-B903936C434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ECD71-95C7-4146-9EFA-5332687573D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44D3B-8C92-48BF-B7BC-F28B4DFF811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CE6B0-C962-4E95-B37E-11E63D30E45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92004-01A6-430A-9367-E397C2627A0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29774-5764-4D8A-8AED-D2C97F133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5668-761D-4F71-8B9C-8CAE8DE2CF5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CB1CF-6BA3-4BBE-940A-9D7A28C09AD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7D473-5348-48CF-8A3D-17E8F3B4CC8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FC876-7C7B-4AB1-98C0-04A2FE6C6A6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A59BC-C4F1-4E9F-BFA3-187C4A4D6F5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D9315-75C5-42F7-8F02-DEC5441D5A4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D942E-AE32-4303-A8E5-D1BC9156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E8AA4-4AA4-4690-9B89-5DFEBAA6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107FF-8D5B-4F2B-8B59-CBA799DB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0572A-D1B0-4937-BD14-7A95B538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B404D-9656-4F23-B92F-507BF232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01A3-BE88-44E6-AFC2-1D4531E948E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73C9E-0E6D-4259-B660-C541E556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3CD5C-22D2-4241-94D3-E9C3A613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54619-F46A-4D8D-B6CE-BE26DD8C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BFE6E-2875-49C6-B976-22BDD317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9C458-0AAA-4793-A59F-3E1653E5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16064-BBFD-4FD2-A3C8-5B15C691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7BB5F-370F-4058-81F0-D73ACF05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8C86B-15CA-4D60-94CA-74164C67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2CD50-628B-4CD0-9D0A-FD7B7B25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56E93-93F7-4CCA-B0FD-FB93917D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805B-72FC-4CCA-B473-EED4529675A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492B-B79C-4381-8433-803DC12F67B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AEAD-331B-472A-BA6A-2BB51F3C32E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E6A0-86D9-488A-89C4-1B74C197445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35AB-B2A6-4F10-8A6A-AF0388C7413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68DA-CF8B-4B0A-9448-F7CC4BEA4321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7DE2-FDB1-4E4F-8B66-A005285C621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2AD1-7AE2-43B5-85A9-07A6CDD3F3E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D3BE-C1A2-4E5D-90F2-1A2DC4D2CA0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117B-1C23-4EE9-8E93-73FFFC1F461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0AE2-0D0E-4CAF-9325-11B994D940B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018B-0321-48A1-AA97-669EE48B293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AA8C-F591-4BD4-8AFC-3045B219635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45B7-4AF1-4C36-9B16-D4176258E826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503F-FC2C-4718-9460-3B1611E2088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6589-5515-4E93-9ABB-989402F73FC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9FD0-B68B-47BE-88D7-0403E39D6A1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74ED-0A84-496C-85AE-26F96DF89FBE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57E7-4822-4E4A-88E9-9392DD29CFB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B482-0752-4323-86D4-3ED269D77C80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2247-5713-4D67-885E-D8FFFC53903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EDD3-236C-48EE-AF85-F3794450D43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16BC-1DA7-4163-A169-27E4087FA72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195D-FAAC-4168-ADF4-075303F04F6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7AF6-FAEE-44E3-8994-EEAF72F9694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9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5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Zasady kontraktowania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24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br>
              <a:rPr sz="2400"/>
            </a:b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- </a:t>
            </a:r>
            <a:r>
              <a:rPr b="0" lang="pl-PL" sz="4000" spc="-1" strike="noStrike">
                <a:solidFill>
                  <a:srgbClr val="ff0000"/>
                </a:solidFill>
                <a:latin typeface="Candara"/>
              </a:rPr>
              <a:t>aspekty merytorycz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ymagane umowy podwykonawcze n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diagnosty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laboratoryjne w tym mikrobiologi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-   transport sanitarn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72880" y="2205000"/>
            <a:ext cx="9360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gwarantowane udzielane w 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warunkach domowych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ealizowane są w ramach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espołu długoterminowej opieki domowej dla pacjentów wentylowanych mechanicznie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espołu długoterminowej opieki domowej dla dzieci wentylowanych mechanicznie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ielęgniarskiej opieki długoterminowej domowej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62EF-84E5-4BE2-B942-15FADC91935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95000" y="1599840"/>
            <a:ext cx="84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Wymagane warunki do realizacji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4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arunki realizacji świadczeń gwarantowanych </a:t>
            </a:r>
            <a:br>
              <a:rPr sz="2800"/>
            </a:b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 zakresu świadczeń pielęgnacyjnych i opiekuńczych w ramach opieki długoterminow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0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F51F-CA93-4F98-A77B-D71EF5AD039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95000" y="1599840"/>
            <a:ext cx="84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magania dotyczą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liczby i kwalifikacji personelu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sprzętu medycznego i pomocniczego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arunków lokalowych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innych warunków udzielania świadczeń gwarantowanych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3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869E-171B-40DE-81DA-D478E3603CF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066D-B1E4-4BD5-93E8-4BF4FCBF09A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849240" y="1628640"/>
          <a:ext cx="7991640" cy="446436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879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przeliczeniowy na 35 łóżek (równoważnik 1 etatu przeliczeniowego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 etaty na 35 łóżek (równoważnik 2 etatów przeliczeniowych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28520" y="1484280"/>
            <a:ext cx="9577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b87d6"/>
                </a:solidFill>
                <a:latin typeface="Candara"/>
              </a:rPr>
              <a:t>Personel – wymagania, lekarze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Przy zakresie obowiązków obejmującym badanie pacjentów nie mniej niż 2 razy w tygodniu i porady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na wezwanie w razie potrzeby – udziela świadczeń w łącznym wymiarze </a:t>
            </a:r>
            <a:r>
              <a:rPr b="1" lang="pl-PL" sz="1600" spc="-1" strike="noStrike" u="sng">
                <a:solidFill>
                  <a:srgbClr val="ff0000"/>
                </a:solidFill>
                <a:uFillTx/>
                <a:latin typeface="Candara"/>
              </a:rPr>
              <a:t>1 etatu przeliczeniowego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0000"/>
                </a:solidFill>
                <a:uFillTx/>
                <a:latin typeface="Candara"/>
              </a:rPr>
              <a:t>na 35 łóżek (równoważnik 1 etatu przeliczeniowego na 35 łóżek</a:t>
            </a:r>
            <a:r>
              <a:rPr b="1" lang="pl-PL" sz="1600" spc="-1" strike="noStrike">
                <a:solidFill>
                  <a:srgbClr val="ff0000"/>
                </a:solidFill>
                <a:latin typeface="Candara"/>
              </a:rPr>
              <a:t>)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, przy czym w wymiarze tym </a:t>
            </a: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uwzględnia się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cząstkowe etaty przeliczeniowe lekarza specjalisty w dziedzinie: chorób wewnętrznych lub medycyny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rodzinnej, lub medycyny ogólnej, lub chirurgii ogólnej, lub geriatrii, lub gerontologii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 oraz </a:t>
            </a: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zapewnia się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konsultację specjalistyczną przez co najmniej lekarza specjalistę psychiatrii oraz neurologii lub cząstkowe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etaty przeliczeniowe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: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1) lekarza ze specjalizacją I stopnia w dziedzinie: chorób wewnętrznych lub medycyny ogólnej, lub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geriatrii, neurologii, psychiatrii, lub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2) lekarza w trakcie specjalizacji z dziedziny: chorób wewnętrznych lub medycyny rodzinnej, lub geriatrii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neurologii, psychiatrii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(aktualna ocena pacjenta, dokonywana nie mniej niż dwa razy w tygodniu, potwierdzana jest datą, pieczątką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i podpisem osoby przeprowadzającej badania kontrolne)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99F5-1B4E-4B46-95CA-4097BCE708B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b87d6"/>
                </a:solidFill>
                <a:latin typeface="Candara"/>
              </a:rPr>
              <a:t>Personel – wymagania, pielęgniarki : kwalifikacje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Z ukończoną specjalizacją, kursem kwalifikacyjnym lub w trakcie odbywania tych specjalizacji lub kursów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1) w dziedzinie opieki długoterminowej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2) w dziedzinie pielęgniarstwa przewlekle chorych i niepełnosprawnych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3) w dziedzinie pielęgniarstwa zachowawcz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4) w dziedzinie pielęgniarstwa rodzin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5) w dziedzinie pielęgniarstwa środowiskow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6) w dziedzinie pielęgniarstwa środowiskowo-rodzin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7) w dziedzinie pielęgniarstwa geriatrycz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8) w dziedzinie pielęgniarstwa opieki paliatywnej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9) specjalistycznych w zakresie opieki paliatywnej, lub w trakcie odbywania tych kursów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łącznie 25% czasu pracy ogółu pielęgniarek udzielających świadczeń u danego świadczeniodawcy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D602-A3CC-4B2C-99FC-97D0C7D14C4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osoba, która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a) rozpoczęła po dniu 30 września 2012 r. studia wyższe z zakresu fizjoterapii obejmujące co najmniej 2435 godzin kształcenia w zakresie fizjoterapii i uzyskała tytuł licencjata lub dodatkowo co najmniej 1440 godzin kształcenia w zakresie fizjoterapii i uzyskała tytuł magistra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b) rozpoczęła po dniu 31 grudnia 1997 r. studia wyższe na kierunku fizjoterapia zgodnie ze standardami kształcenia określonymi w odrębnych przepisach i uzyskała tytuł licencjata lub magistra na tym kierunku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c) rozpoczęła przed dniem 1 stycznia 1998 r. studia wyższe na kierunku rehabilitacja ruchowa i uzyskała tytuł magistra na tym kierunku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d) rozpoczęła przed dniem 1 stycznia 1998 r. studia wyższe w Akademii Wychowania Fizycznego i uzyskała tytuł magistra oraz ukończyła specjalizację I lub II stopnia w dziedzinie rehabilitacji ruchowej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e) rozpoczęła przed dniem 1 stycznia 1980 r. studia wyższe na kierunku wychowanie fizyczne i uzyskała tytuł magistra na tym kierunku oraz ukończyła w ramach studiów dwuletnią specjalizację z zakresu gimnastyki leczniczej lub rehabilitacji ruchowej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f) rozpoczęła przed dniem 1 stycznia 1980 r. studia wyższe na kierunku wychowanie fizyczne i uzyskała tytuł magistra na tym kierunku oraz ukończyła trzymiesięczny kurs specjalizacyjny z rehabilitacji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g) ukończyła szkołę policealną publiczną lub niepubliczną o uprawnieniach szkoły publicznej i uzyskała tytuł zawodowy technik fizjoterapii, zwana dalej „osobą prowadzącą fizjoterapię”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400" spc="-1" strike="noStrike" u="sng">
                <a:solidFill>
                  <a:srgbClr val="ff0000"/>
                </a:solidFill>
                <a:uFillTx/>
                <a:latin typeface="Candara"/>
              </a:rPr>
              <a:t>udziela świadczeń w łącznym wymiarze 2 etatów przeliczeniowych na 35 łóżek (równoważnik 2 etatów przeliczeniowych na 35 łóżek)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–– </a:t>
            </a: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w zakładach opiekuńczych dla świadczeniobiorców będących w stanie wegetatywnym (którzy nie są </a:t>
            </a:r>
            <a:br>
              <a:rPr sz="1400"/>
            </a:b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w stanie przełykać i są karmieni przez zgłębnik lub gastrostomię lub jejunostomię lub pozajelitowo),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a którzy w ocenie skalą Barthel otrzymali „0” punktów – udziela świadczeń w łącznym wymiarze ¼ etatu przeliczeniowego na 1 łóżko (równoważnik ¼ etatu przeliczeniowego na 1 łóżko)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9880-A130-47B1-B4D1-6F0C9FB5803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osoba, któr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psycholog lub psycholog posiadający tytuł specjalisty w dziedzinie psychologii klinicznej – udziela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świadczeń w łącznym wymiarze 1/2 etatu przeliczeniowego na 35 łóżek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osoba, która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rozpoczęła po dniu 30 września 2012 r. i ukończyła studia wyższe w zakresie logopedii, obejmujące co najmniej 800 godzin kształcenia w zakresie logopedii i uzyskała tytuł magistra, lub ukończyła studia wyższe i uzyskała tytuł magistra oraz ukończyła studia podyplomowe z logopedii obejmujące co najmniej 600 godzin kształcenia w zakresie logopedii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rozpoczęła po dniu 31 grudnia 1998 r. i ukończyła studia wyższe na kierunku albo w specjalności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logopedia obejmujące co najmniej 800 godzin kształcenia w zakresie logopedii i uzyskała tytuł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licencjata lub magistra na tym kierunku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c) rozpoczęła po dniu 31 grudnia 1998 r. i ukończyła studia wyższe i uzyskała tytuł magistra oraz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ukończyła studia podyplomowe z logopedii obejmujące co najmniej 600 godzin kształcenia w zakresie logopedii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) rozpoczęła przed dniem 31 grudnia 1998 r. i ukończyła studia wyższe i uzyskała tytuł magistra oraz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ukończyła studia podyplomowe z logopedii, zwana dalej „logopedą”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E82E-2B4C-4303-B929-A83AC3B09B8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Candara"/>
              </a:rPr>
              <a:t>Wymagania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C75C-7AF1-474D-809F-A8D68200610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osoba, któr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ukończyła studia wyższe na kierunku lub w specjalności terapia zajęciowa, obejmujące co najmniej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3000 godzin kształcenia, w tym 2000 godzin w grupie treści podstawowych i kierunkowych obejmujących wiedzę z zakresu teorii i technik terapeutycznych i uzyskała tytuł licencjata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ukończyła szkołę policealną publiczną lub niepubliczną o uprawnieniach szkoły publicznej i uzyskała tytuł zawodowy terapeuty zajęciowego lub dyplom potwierdzający kwalifikacje zawodowe w zawodzie terapeuty zajęciowego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c) ukończyła przed dniem wejścia w życie rozporządzenia szkołę policealną publiczną lub niepubliczną </a:t>
            </a:r>
            <a:br>
              <a:rPr sz="1500"/>
            </a:b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o uprawnieniach szkoły publicznej i uzyskała tytuł zawodowy w zawodzie instruktor terapii zajęciowej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) ukończyła przed dniem 1 października 2011 r. studia wyższe w specjalności terapia zajęciowa, obejmujące co najmniej 1665 godzin kształcenia przygotowującego do wykonywania zawodu terapeuty zajęciowego i uzyskała tytuł licencjata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e) rozpoczęła po dniu 30 sierpnia 2012 r. studia wyższe w zakresie terapii zajęciowej, obejmujące co najmniej 2000 godzin w grupie treści podstawowych i kierunkowych obejmujących wiedzę z zakresu teorii i technik terapeutycznych i uzyskała co najmniej tytuł licencjata, zwana dalej „terapeutą zajęciowym”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500" spc="-1" strike="noStrike" u="sng">
                <a:solidFill>
                  <a:srgbClr val="073e87"/>
                </a:solidFill>
                <a:uFillTx/>
                <a:latin typeface="Candara"/>
              </a:rPr>
              <a:t>udziela świadczeń w łącznym wymiarze 1/2 etatu przeliczeniowego na 35 pacjentów uczestniczących w terapii w ciągu tygodnia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FF02-8F55-4C1E-95CC-2D6CE151F9C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opuszcza się możliwość realizacji świadczeń przez osobę, która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rozpoczęła przed dniem 1 września 2012 r. i ukończyła zasadniczą szkołę zawodową publiczną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niepubliczną o uprawnieniach szkoły publicznej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rozpoczęła po dniu 31 sierpnia 2012 r. i ukończyła kwalifikacyjny kurs zawodowy lub ukończyła szkołę policealną publiczną lub niepubliczną o uprawnieniach szkoły publicznej i uzyskała dyplom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potwierdzający kwalifikacje zawodowe w zawodzie opiekun medyczny, posiadająca kwalifikacje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o wykonywania czynności w zakresie podstawowej pielęgnacji chorych i osób niesamodzielnych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zwaną dalej „opiekunem medycznym”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6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501D-37E6-454B-B395-5F4E9BC1569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682D-22D2-44FB-BD0B-5CF741A625D6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415800" y="907920"/>
          <a:ext cx="9001080" cy="4721400"/>
        </p:xfrm>
        <a:graphic>
          <a:graphicData uri="http://schemas.openxmlformats.org/drawingml/2006/table">
            <a:tbl>
              <a:tblPr/>
              <a:tblGrid>
                <a:gridCol w="3589560"/>
                <a:gridCol w="2728800"/>
                <a:gridCol w="2682720"/>
              </a:tblGrid>
              <a:tr h="333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dodatkowy sprzęt medyczny i pomocniczy dla świadczeniobiorców w stanie wegetatywnym, którzy w ocenie skalą Barthel otrzymali „0” punktów, znajdujący się w miejscu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zestaw z jednorazowym sprzętem do pielęgnacji tracheostomii, gastrostomii, konikotomi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samorozprężalny worek oddechowy z zastawką jednokierunkową i maską twarzow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992160" y="2771640"/>
          <a:ext cx="7921800" cy="202572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0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gabinet rehabilitacyjny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do prowadzenia psychoterapii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terapii zajęciowej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sala dziennego pobytu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944280" y="2349000"/>
            <a:ext cx="80262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 dla dzieci i młodzieży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1A2E-09A5-4265-A0E1-AC466ED5812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dzieci i młodzież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przeliczeniowy na 35 łóżek (równoważnik 1 etatu przeliczeniowego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 etaty przeliczeniowe na 35 łóżek (równoważnik 2 etatów przeliczeniowych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9E83-836C-445D-9247-BB6FE0DADFC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415800" y="907920"/>
          <a:ext cx="9001080" cy="4111920"/>
        </p:xfrm>
        <a:graphic>
          <a:graphicData uri="http://schemas.openxmlformats.org/drawingml/2006/table">
            <a:tbl>
              <a:tblPr/>
              <a:tblGrid>
                <a:gridCol w="3589560"/>
                <a:gridCol w="2728800"/>
                <a:gridCol w="2682720"/>
              </a:tblGrid>
              <a:tr h="333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dzieci i młodzież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992160" y="2771640"/>
          <a:ext cx="7921800" cy="202572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0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gabinet rehabilitacyjny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do prowadzenia psychoterapii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terapii zajęciowej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sala dziennego pobytu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 </a:t>
            </a:r>
            <a:br>
              <a:rPr sz="3200"/>
            </a:b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dla pacjentów 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7AD1-D69C-4240-8359-FFE565E8D0F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pacjentów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8 etatu przeliczeniowego na 1 łóżko (równoważnik 1/8 etatu przeliczeniowego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4 etatu przeliczeniowego na 1 łóżko (równoważnik 1/4 etatu przeliczeniowego               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Obwieszczenie Ministra Zdrowia z dnia 22 września 2015 r. w sprawie ogłoszenia jednolitego tekstu rozporządzenia Ministra Zdrowia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w sprawie świadczeń gwarantowanych z zakresu świadczeń pielęgnacyjnych i opiekuńczych w ramach opieki długoterminowej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(Dz. U. z 2015 r., Nr  1658 )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49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4a8a4"/>
                </a:solidFill>
                <a:latin typeface="Candara"/>
              </a:rPr>
              <a:t>wykaz gwarantowanych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4a8a4"/>
                </a:solidFill>
                <a:latin typeface="Candara"/>
              </a:rPr>
              <a:t>wymagane warunki do ich realizacji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B766-9C72-44B6-BE7D-3F13DB0805A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18A2-867B-4297-B8AA-D0E685978E5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488880" y="981000"/>
          <a:ext cx="8856720" cy="4713480"/>
        </p:xfrm>
        <a:graphic>
          <a:graphicData uri="http://schemas.openxmlformats.org/drawingml/2006/table">
            <a:tbl>
              <a:tblPr/>
              <a:tblGrid>
                <a:gridCol w="3532320"/>
                <a:gridCol w="2684520"/>
                <a:gridCol w="2639880"/>
              </a:tblGrid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orosłych, dzieci wentylowanych mechanicznie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78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 wyposażony w: – akumulator pozwalający na: –  swobodne korzystanie z wózka inwalidzkiego, – podtrzymanie czynności respiratora do 4 godzin, – filtry powietrza w układzie, – komplet parametrów nastawnych, – 2 alarmy: rozłączenia układu i nadmiernego ciśnienia w drogach oddechowyc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każdego świadczeniobior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, stanowiący własność świadczeniodaw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 z dodatkowym wyposażeniem jednorazowym (cewniki, łączniki) oraz ssak rezerw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efibrylat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z jednorazowym sprzętem do pielęgnacji tracheostomii, gastrostomi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920880" y="2143080"/>
          <a:ext cx="7993080" cy="29415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7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2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sale 1-2 łóżkowe z bezpośrednim sąsiedztwem łazienki i dostępem do wyłącznika światła dla pacjenta; w zakładach opiekuńczych dla dzieci i młodzieży do ukończenia 18. roku życia: sale 1-2 łóżkowe z zapewnieniem dostępu do łóżka z trzech stron i swobodnego korzystania ze sprzętu pielęgnacyjnego, rehabilitacyjnego i wspomagając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lekarski i zabiegowo-pielęgniarski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rehabilitacyjn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akumulatorowe źródło światła aktywowane w przypadku awarii prądu, alternatywne źródło zasilania elektrycznego – generator prądu, słyszalny alarm respirator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Świadczenia w zakładzie pielęgnacyjno-opiekuńczym/opiekuńczo-leczniczym dla dzieci 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FF30-88FC-4929-8C69-F806F1FB3DA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           dla dzieci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8 etatu przeliczeniowego na 1 łóżko (równoważnik 1/8 etatu przeliczeniowego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4 etatu przeliczeniowego na 1 łóżko (równoważnik 1/4 etatu przeliczeniowego               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6FDE-737E-446B-8424-19130BC615A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488880" y="981000"/>
          <a:ext cx="8856720" cy="4713480"/>
        </p:xfrm>
        <a:graphic>
          <a:graphicData uri="http://schemas.openxmlformats.org/drawingml/2006/table">
            <a:tbl>
              <a:tblPr/>
              <a:tblGrid>
                <a:gridCol w="3532320"/>
                <a:gridCol w="2684520"/>
                <a:gridCol w="2639880"/>
              </a:tblGrid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orosłych, dzieci wentylowanych mechanicznie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78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 wyposażony w: – akumulator pozwalający na: –  swobodne korzystanie z wózka inwalidzkiego, – podtrzymanie czynności respiratora do 4 godzin, – filtry powietrza w układzie, – komplet parametrów nastawnych, – 2 alarmy: rozłączenia układu i nadmiernego ciśnienia w drogach oddechowyc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każdego świadczeniobior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, stanowiący własność świadczeniodaw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 z dodatkowym wyposażeniem jednorazowym (cewniki, łączniki) oraz ssak rezerw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efibrylat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z jednorazowym sprzętem do pielęgnacji tracheostomii, gastrostomi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920880" y="2143080"/>
          <a:ext cx="7993080" cy="29415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7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2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sale 1-2 łóżkowe z bezpośrednim sąsiedztwem łazienki i dostępem do wyłącznika światła dla pacjenta; w zakładach opiekuńczych dla dzieci i młodzieży do ukończenia 18. roku życia: sale 1-2 łóżkowe z zapewnieniem dostępu do łóżka z trzech stron i swobodnego korzystania ze sprzętu pielęgnacyjnego, rehabilitacyjnego i wspomagając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lekarski i zabiegowo-pielęgniarski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rehabilitacyjn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akumulatorowe źródło światła aktywowane w przypadku awarii prądu, alternatywne źródło zasilania elektrycznego – generator prądu, słyszalny alarm respirator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zespołu długoterminowej opieki domowej dla dorosłych i dzieci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5440" y="333000"/>
            <a:ext cx="8915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507F-E5A3-4467-B8F5-47403B04FDF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849240" y="1413000"/>
          <a:ext cx="7991640" cy="295272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579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zespołu długoterminowej opieki domowej dla dorosłych i dzieci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C465-9EFB-4C9B-9D1D-0070B712503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560520" y="1417680"/>
          <a:ext cx="8713800" cy="4387680"/>
        </p:xfrm>
        <a:graphic>
          <a:graphicData uri="http://schemas.openxmlformats.org/drawingml/2006/table">
            <a:tbl>
              <a:tblPr/>
              <a:tblGrid>
                <a:gridCol w="3475080"/>
                <a:gridCol w="2641320"/>
                <a:gridCol w="2597400"/>
              </a:tblGrid>
              <a:tr h="441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medyczny i pomocnicz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zespołu długoterminowej opieki domowej dla dorosłych, dzieci i młodzieży wentylowanych mechaniczni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398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 </a:t>
                      </a: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wyposażony w: – akumulator pozwalający na: – –  swobodne korzystanie z wózka inwalidzkiego, – –  podtrzymanie czynności respiratora do 4 godzin, – filtry powietrza w układzie, – komplet parametrów nastawnych, – 2 alarmy: rozłączenia układu i nadmiernego ciśnienia w drogach oddechowych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ależnie od potrzeb pacjen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pielęgnacji tracheostomi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ależnie od potrzeb pacjen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niezbędny do obsługi respiratora, w tym jednorazowego uży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amorozprężalny worek oddechowy z zastawką jednokierunkową i maską twarzow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rzenośny aparat EK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udzielania pierwszej pomocy lekarskie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140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eseser pielęgniarski wyposażony w: –  podstawowy sprzęt i materiały jednorazowego użytku, w tym zestaw do wykonania iniekcji, przetaczania płynów infuzyjnych, zestaw do wykonywania opatrunków, zestaw podstawowych narzędzi chirurgicznych, pakiet ochronny, – zestaw do założenia i usunięcia zgłębnika oraz do karmienia przez zgłębnik, stomię, – zestaw do karmienia przez przetokę i pielęgnacji przetoki, – zestaw do założenia, płukania i usunięcia cewnika, – pakiet do dezynfekcji, – zestaw przeciwwstrząsowy, – glukometr, – termometr, – aparat do pomiaru ciśnienia krwi, – zestaw do wykonywania zabiegów i czynności higieniczno-pielęgnacyjnych, – środki ochrony osobistej: fartuchy, maseczki, rękawice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la każdej pielęgniark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C6E5-5018-4352-8BF7-1583055A6BF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992160" y="2752560"/>
          <a:ext cx="7777080" cy="21891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955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pomieszczenie przystosowane do celów biurowych oraz do przechowywania leków, materiałów opatrunkowych i sprzętu medyczn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zapewnienie kontaktu telefoniczneg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gwarantowane są realizowane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warunkach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)  stacjonarnych;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)  domowych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7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44E9-2FC5-401D-BB27-1C46D7BEB4A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944280" y="1989000"/>
            <a:ext cx="80262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pieka w domu świadczeniobiorcy wymagającego stosowania inwazyjnej wentylacji mechanicznej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a)  porady lekarskie w domu świadczeniobiorcy nie mniej niż 1 raz w tygodniu – dla każdego świadczeniobiorcy oraz stała dostępność w systemie zmianowym albo dyżurowym pod telefonem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2 razy w tygodniu – dla każdego świadczeniobiorcy oraz stała dostępność w systemie zmianowym albo dyżurowym pod telefonem, c)  wizyty osoby prowadzącej fizjoterapię, nie mniej niż 2 razy w tygodniu – dla każdego świadczeniobiorcy (maksymalna częstotliwość i ogólna liczba wizyt domowych, o których mowa w lit.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2) opieka w domu świadczeniobiorcy wymagającego stosowania nieinwazyjnej wentylacji mechanicznej, w przypadku świadczeniobiorców wentylowanych powyżej 16 godzin na dobę, w przypadku świadczeniobiorców z przewlekłą niewydolnością oddechową na podłożu chorób nerwowo-mięśniowych oraz w przypadku dzieci i młodzieży do ukończenia 18. roku życia bez względu na czas trwania nieinwazyjnej wentylacji mechanicznej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2 razy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c)  wizyty osoby prowadzącej fizjoterapię, nie mniej niż 2 razy w tygodniu – dla każdego świadczeniobiorcy (maksymalna częstotliwość i ogólna liczba wizyt domowych, o których mowa w lit.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3) opieka w domu świadczeniobiorcy wymagającego stosowania nieinwazyjnej wentylacji mechanicznej, w przypadku świadczeniobiorców wentylowanych od 8 do 16 godzin na dobę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na 2 tygodnie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izyty pielęgniarskie nie mniej niż 1 raz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c)  wizyty osoby prowadzącej fizjoterapię, nie mniej niż 2 razy w tygodniu – dla każdego świadczeniobiorcy (maksymalna częstotliwość i ogólna liczba wizyt domowych, o których mowa w lit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4) opieka w domu świadczeniobiorcy wymagającego stosowania nieinwazyjnej wentylacji mechanicznej, w przypadku świadczeniobiorców wentylowanych poniżej 8 godzin na dobę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na kwartał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1 raz na kwartał – dla każdego świadczeniobiorcy oraz stała dostępność w systemie zmianowym albo dyżurowym pod telefonem (maksymalna częstotliwość i ogólna liczba wizyt domowych, o których mowa w lit b, jest ustalana indywidualnie przez lekarza udzielającego świadczeniobiorcy świadczeń gwarantowanych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Pielęgniarska opieka długoterminowa domow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A67C-7E59-4E36-AD32-DD5410B0354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849240" y="1989000"/>
          <a:ext cx="7991640" cy="12956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698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ska opieka długoterminowa domow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96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na 6 pacjentów pod różnymi adresami lub 12 pacjentów pod tym samym adres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B216-33F4-48B3-A80F-3E36324C1C98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992160" y="1646280"/>
          <a:ext cx="7777080" cy="3565440"/>
        </p:xfrm>
        <a:graphic>
          <a:graphicData uri="http://schemas.openxmlformats.org/drawingml/2006/table">
            <a:tbl>
              <a:tblPr/>
              <a:tblGrid>
                <a:gridCol w="4417920"/>
                <a:gridCol w="3359160"/>
              </a:tblGrid>
              <a:tr h="569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medyczny i pomocnic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ska opieka długoterminowa domow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995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eseser pielęgniarski  wyposażony w: 1) podstawowy sprzęt i materiały jednorazowego użytku, w tym zestaw do wykonania iniekcji, przetaczania płynów infuzyjnych, zestaw do wykonywania opatrunków, zestaw podstawowych narzędzi chirurgicznych, pakiet ochronny; 2) zestaw do założenia i usunięcia zgłębnika oraz do karmienia przez zgłębnik, stomię; 3) zestaw do karmienia przez przetokę i pielęgnacji przetoki; 4) zestaw do założenia, płukania i usunięcia cewnika; 5) pakiet do odkażania i dezynfekcji; 6) zestaw do pielęgnacji tracheostomii; 7) zestaw przeciwwstrząsowy; 8) maseczka twarzowa do prowadzenia oddechu zastępczego; 9) glukometr; 10) termometr; 11) zestaw do wykonywania zabiegów i czynności higieniczno-pielęgnacyjnych; 12) środki ochrony osobistej: fartuchy, maseczki, rękawice; 13) aparat do pomiaru ciśnienia krwi; 14) stetoskop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la każdej 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970A-64E4-4D35-9EDB-D48FC440994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1" name=""/>
          <p:cNvGraphicFramePr/>
          <p:nvPr/>
        </p:nvGraphicFramePr>
        <p:xfrm>
          <a:off x="776160" y="2752560"/>
          <a:ext cx="8353440" cy="204480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89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87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pomieszczenie przystosowane do celów biurowych oraz do przechowywania leków, materiałów opatrunkowych i sprzętu medyczn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zapewnienie kontaktu telefoniczneg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944280" y="1989000"/>
            <a:ext cx="80262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dostępność od poniedziałku do piątku w godzinach od 800 do 2000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2)   dostępność w soboty i dni ustawowo wolne od pracy – w medycznie uzasadnionych przypadkach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)   wizyty – nie mniej niż 4 razy w tygodniu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4)   liczba świadczeniobiorców objętych opieką, przebywających pod różnymi adresami zamieszkania – równoważnik 1 etatu przeliczeniowego – pielęgniarka nie może jednoczasowo opiekować się więcej niż 6 świadczeniobiorcami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5)   liczba świadczeniobiorców objętych opieką, przebywających pod tym samym adresem zamieszkania (np. w domu pomocy społecznej) – równoważnik 1 etatu przeliczeniowego – pielęgniarka nie może jednoczasowo opiekować się więcej niż 12 świadczeniobiorcami</a:t>
            </a:r>
            <a:r>
              <a:rPr b="0" lang="pl-PL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862aa"/>
                </a:solidFill>
                <a:latin typeface="Times New Roman"/>
              </a:rPr>
              <a:t>PROPORCJONALNE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WYLICZANIE CZASU PRACY DANEGO PERSONELU WZGLĘDEM LICZBY ŚWIADCZEŃ WSKAZANEJ W OFERCIE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(np. punkt w pielęgniarskiej opiece długoterminowej domowej = 1 osobodzień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272880" y="1484280"/>
            <a:ext cx="9360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 – zakresy kontraktowa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850" name="Picture 5" descr=""/>
          <p:cNvPicPr/>
          <p:nvPr/>
        </p:nvPicPr>
        <p:blipFill>
          <a:blip r:embed="rId1"/>
          <a:stretch/>
        </p:blipFill>
        <p:spPr>
          <a:xfrm>
            <a:off x="928800" y="2376360"/>
            <a:ext cx="80485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944280" y="2060280"/>
            <a:ext cx="8026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ielęgniarskiej opiece długoterminowej dom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indywidualnym harmonogramie pracy; w typie udzielania świadczeń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wskazujemy „praca w miejscu”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(a nie wizyty domowe, tryb zarezerwowany dla podstawowej opieki zdrowotnej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 txBox="1"/>
          <p:nvPr/>
        </p:nvSpPr>
        <p:spPr>
          <a:xfrm>
            <a:off x="944280" y="2349000"/>
            <a:ext cx="80262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ielęgniarskiej opiece długoterminowej dom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harmonogram pracy komórki organizacyjnej musi być wypełniony indywidualnymi harmonogramami pracy pielęgniare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poniedziałek-piątek od 08:00 do 20:00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sobota-niedziela (np. od 08:00 do 10:00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 txBox="1"/>
          <p:nvPr/>
        </p:nvSpPr>
        <p:spPr>
          <a:xfrm>
            <a:off x="944280" y="2133720"/>
            <a:ext cx="8026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ewidencjonowanie kompetencji pielęgniarskich:</a:t>
            </a:r>
            <a:br>
              <a:rPr sz="2400"/>
            </a:b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rzypadku wykazywania w ofercie pielęgniarek, będących w trakcie uzyskiwania wymaganych kwalifikacji  należy wskazać kompetencję </a:t>
            </a:r>
            <a:br>
              <a:rPr sz="2400"/>
            </a:b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o kodzie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0303 - pielęgniarka w trakcie szkolenia specjalizacyjnego/ kursu kwalifikacyjnego/kursu specjalistyczneg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1462-45D3-42B9-96FF-864328E6C87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4" name=""/>
          <p:cNvGraphicFramePr/>
          <p:nvPr/>
        </p:nvGraphicFramePr>
        <p:xfrm>
          <a:off x="272880" y="1601640"/>
          <a:ext cx="9402840" cy="4635720"/>
        </p:xfrm>
        <a:graphic>
          <a:graphicData uri="http://schemas.openxmlformats.org/drawingml/2006/table">
            <a:tbl>
              <a:tblPr/>
              <a:tblGrid>
                <a:gridCol w="1513080"/>
                <a:gridCol w="1582560"/>
                <a:gridCol w="1873440"/>
                <a:gridCol w="2473200"/>
                <a:gridCol w="1960560"/>
              </a:tblGrid>
              <a:tr h="45900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ymagana dostępność komórek organizacyjnyc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032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i młodzieży 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7640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 poniedziałku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piątku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godzinach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 8:00 do 20:00 oraz w soboty i dni ustawowo wolne od pracy –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medycznie uzasadnionych przypadk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    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   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75e47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675e47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6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2B39-2AC2-4941-8DA8-489A2AEF6D6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344520" y="2133720"/>
          <a:ext cx="9361440" cy="3517920"/>
        </p:xfrm>
        <a:graphic>
          <a:graphicData uri="http://schemas.openxmlformats.org/drawingml/2006/table">
            <a:tbl>
              <a:tblPr/>
              <a:tblGrid>
                <a:gridCol w="1488960"/>
                <a:gridCol w="1525680"/>
                <a:gridCol w="1527120"/>
                <a:gridCol w="2009880"/>
                <a:gridCol w="2809800"/>
              </a:tblGrid>
              <a:tr h="31428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rsonel: harmonogramy p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900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młodzieży w tym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1464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monogram godzinowy w rozbiciu na dni tygod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72520" y="2349000"/>
            <a:ext cx="9433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ndara"/>
              </a:rPr>
              <a:t>Od 1 lipca 2018 r. obowiązuj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arządzenie nr 45/2018/DSOZ Prezesa Narodowego Funduszu Zdrowia z dnia 30 maja 2018 r. w sprawie określenia warunków zawierania i realizacji umów w rodzaju świadczenia pielęgnacyjn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i opiekuńcze w ramach opieki długotermin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przedmiot postępowania w sprawie zawarcia umów </a:t>
            </a:r>
            <a:br>
              <a:rPr sz="2800"/>
            </a:b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o udzielanie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szczegółowe warunki umów o udzielanie świadczeń opieki zdrowotnej (wzór umowy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178B-E763-4D5A-A243-19CFF418649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344160" y="2674440"/>
            <a:ext cx="9288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1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Katalog świadczeń pielęgnacyjnych i opiekuńczych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dla świadczeń gwarantowanych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ACE2-8309-42FF-9218-40B2EDAD769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5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C50B-F296-492B-80BC-3BA6D15445D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5" descr=""/>
          <p:cNvPicPr/>
          <p:nvPr/>
        </p:nvPicPr>
        <p:blipFill>
          <a:blip r:embed="rId1"/>
          <a:stretch/>
        </p:blipFill>
        <p:spPr>
          <a:xfrm>
            <a:off x="200160" y="1413000"/>
            <a:ext cx="95770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8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9E00-10D2-41CE-AA36-A47CE2167DB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"/>
          <p:cNvPicPr/>
          <p:nvPr/>
        </p:nvPicPr>
        <p:blipFill>
          <a:blip r:embed="rId1"/>
          <a:stretch/>
        </p:blipFill>
        <p:spPr>
          <a:xfrm>
            <a:off x="0" y="2095560"/>
            <a:ext cx="984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1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0399-060F-4A49-82A1-25C744C1E16D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2" descr=""/>
          <p:cNvPicPr/>
          <p:nvPr/>
        </p:nvPicPr>
        <p:blipFill>
          <a:blip r:embed="rId1"/>
          <a:stretch/>
        </p:blipFill>
        <p:spPr>
          <a:xfrm>
            <a:off x="200160" y="2400480"/>
            <a:ext cx="957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2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E49A-31C1-484D-8885-A31E81493F3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272880" y="1844640"/>
          <a:ext cx="9360000" cy="2989440"/>
        </p:xfrm>
        <a:graphic>
          <a:graphicData uri="http://schemas.openxmlformats.org/drawingml/2006/table">
            <a:tbl>
              <a:tblPr/>
              <a:tblGrid>
                <a:gridCol w="1960560"/>
                <a:gridCol w="1748160"/>
                <a:gridCol w="1519200"/>
                <a:gridCol w="2325600"/>
                <a:gridCol w="1806480"/>
              </a:tblGrid>
              <a:tr h="43668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Kody resortowe komórek organizacyjnyc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812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i młodzież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1464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/5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1/5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4" name="Prostokąt 6"/>
          <p:cNvSpPr/>
          <p:nvPr/>
        </p:nvSpPr>
        <p:spPr>
          <a:xfrm>
            <a:off x="344520" y="5300640"/>
            <a:ext cx="914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f2b20"/>
                </a:solidFill>
                <a:latin typeface="Arial"/>
                <a:ea typeface="Arial"/>
              </a:rPr>
              <a:t>*/ ROZPORZĄDZENIE Ministra Zdrowia z dnia 17 maja 2012 r. w sprawie systemu resortowych kodów identyfikacyjnych oraz szczegółowego sposobu ich nadawania (Dz.U. z 2012 r. poz. 594), zmienione rozporządzeniem Ministra Zdrowia z dnia 27 kwietnia 2017 r. w sprawie systemu resortowych kodów identyfikacyjnych oraz szczegółowego sposobu ich nadawania (Dz.U. z 2017 r. poz. 99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4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18A0-D214-4C9E-925E-F1FE98C55CF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2" descr=""/>
          <p:cNvPicPr/>
          <p:nvPr/>
        </p:nvPicPr>
        <p:blipFill>
          <a:blip r:embed="rId1"/>
          <a:stretch/>
        </p:blipFill>
        <p:spPr>
          <a:xfrm>
            <a:off x="128520" y="2066760"/>
            <a:ext cx="96487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7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CBD0-4D66-4A72-99E3-F3F0F3B5D65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Picture 2" descr=""/>
          <p:cNvPicPr/>
          <p:nvPr/>
        </p:nvPicPr>
        <p:blipFill>
          <a:blip r:embed="rId1"/>
          <a:stretch/>
        </p:blipFill>
        <p:spPr>
          <a:xfrm>
            <a:off x="57240" y="2371680"/>
            <a:ext cx="9720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Wzory oświadcze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ARZĄDZENIE WEWNĘTRZN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DYREKTORA ŚLĄSKIEGO ODDZIAŁU WOJEWÓDZKIEGO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ARODOWEGO FUNDUSZU ZDROWIA W KATOWICACH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r 179/2015  z dnia 5 listopada 2015  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wprowadzenia zasad weryfikacji oferentów uczestniczących w postępowaniach poprzedzających zawarcie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Picture 5" descr=""/>
          <p:cNvPicPr/>
          <p:nvPr/>
        </p:nvPicPr>
        <p:blipFill>
          <a:blip r:embed="rId1"/>
          <a:stretch/>
        </p:blipFill>
        <p:spPr>
          <a:xfrm>
            <a:off x="2079720" y="549360"/>
            <a:ext cx="5746680" cy="619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2" descr=""/>
          <p:cNvPicPr/>
          <p:nvPr/>
        </p:nvPicPr>
        <p:blipFill>
          <a:blip r:embed="rId1"/>
          <a:stretch/>
        </p:blipFill>
        <p:spPr>
          <a:xfrm>
            <a:off x="2079720" y="214200"/>
            <a:ext cx="5746680" cy="5667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2" descr=""/>
          <p:cNvPicPr/>
          <p:nvPr/>
        </p:nvPicPr>
        <p:blipFill>
          <a:blip r:embed="rId1"/>
          <a:stretch/>
        </p:blipFill>
        <p:spPr>
          <a:xfrm>
            <a:off x="2079720" y="404640"/>
            <a:ext cx="5746680" cy="6193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Picture 2" descr=""/>
          <p:cNvPicPr/>
          <p:nvPr/>
        </p:nvPicPr>
        <p:blipFill>
          <a:blip r:embed="rId1"/>
          <a:stretch/>
        </p:blipFill>
        <p:spPr>
          <a:xfrm>
            <a:off x="2079720" y="1274760"/>
            <a:ext cx="5746680" cy="5259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Kontakt telefoniczny w sprawie pytań merytoryczny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nr telefonu:</a:t>
            </a: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	</a:t>
            </a: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32/ 735 19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444680" y="3524400"/>
            <a:ext cx="7016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pis komórki / miejsca realizacji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na obszarz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ontraktowania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rejestrze podmiotów wykonujących działalność lecznicz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2"/>
          <p:cNvSpPr/>
          <p:nvPr/>
        </p:nvSpPr>
        <p:spPr>
          <a:xfrm>
            <a:off x="631800" y="1916280"/>
            <a:ext cx="8785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72880" y="2205000"/>
            <a:ext cx="9360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Świadczenia gwarantowane udzielane w </a:t>
            </a:r>
            <a:r>
              <a:rPr b="0" lang="pl-PL" sz="2200" spc="-1" strike="noStrike" u="sng">
                <a:solidFill>
                  <a:srgbClr val="073e87"/>
                </a:solidFill>
                <a:uFillTx/>
                <a:latin typeface="Candara"/>
              </a:rPr>
              <a:t>warunkach stacjonarnych 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ealizowane są w 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osób dorosłych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pacjentów wentylowanych mechanicznie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dzieci i młodzieży do ukończenia 18. roku życia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pacjentów lub dzieci wentylowanych mechanicznie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Zakłady opiekuńcze to:  zakłady opiekuńczo-lecznicze i pielęgnacyjno-opiekuńcze, </a:t>
            </a:r>
            <a:br>
              <a:rPr sz="1900"/>
            </a:b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o których mowa w ustawie z dnia 15 kwietnia 2011 r. o działalności leczniczej </a:t>
            </a:r>
            <a:br>
              <a:rPr sz="1900"/>
            </a:b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(tj. Dz. U. z 2018 r. poz. 2190)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9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098D-AF07-4055-A1E7-FCC59728CAA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44160" y="2205000"/>
            <a:ext cx="92883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 zakresie koniecznym do wykonania świadczeń gwarantowanych świadczeniodawca zapewnia świadczeniobiorcy nieodpłatnie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1)  badania diagnostyczne;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2)  leki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EB53-9062-4443-A348-C89BB233B47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36Z</dcterms:modified>
  <cp:revision>1195</cp:revision>
  <dc:subject/>
  <dc:title>Slajd 1</dc:title>
</cp:coreProperties>
</file>