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4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11.wmf" ContentType="image/x-wmf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  <p:sldId id="306" r:id="rId71"/>
    <p:sldId id="307" r:id="rId72"/>
    <p:sldId id="308" r:id="rId73"/>
    <p:sldId id="309" r:id="rId74"/>
    <p:sldId id="310" r:id="rId75"/>
    <p:sldId id="311" r:id="rId76"/>
    <p:sldId id="312" r:id="rId77"/>
  </p:sldIdLst>
  <p:sldSz cx="9907588" cy="6858000"/>
  <p:notesSz cx="66706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slide" Target="slides/slide51.xml"/><Relationship Id="rId72" Type="http://schemas.openxmlformats.org/officeDocument/2006/relationships/slide" Target="slides/slide52.xml"/><Relationship Id="rId73" Type="http://schemas.openxmlformats.org/officeDocument/2006/relationships/slide" Target="slides/slide53.xml"/><Relationship Id="rId74" Type="http://schemas.openxmlformats.org/officeDocument/2006/relationships/slide" Target="slides/slide54.xml"/><Relationship Id="rId75" Type="http://schemas.openxmlformats.org/officeDocument/2006/relationships/slide" Target="slides/slide55.xml"/><Relationship Id="rId76" Type="http://schemas.openxmlformats.org/officeDocument/2006/relationships/slide" Target="slides/slide56.xml"/><Relationship Id="rId77" Type="http://schemas.openxmlformats.org/officeDocument/2006/relationships/slide" Target="slides/slide57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0" y="0"/>
            <a:ext cx="66708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dt" idx="46"/>
          </p:nvPr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sldImg"/>
          </p:nvPr>
        </p:nvSpPr>
        <p:spPr>
          <a:xfrm>
            <a:off x="663120" y="740880"/>
            <a:ext cx="534060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body"/>
          </p:nvPr>
        </p:nvSpPr>
        <p:spPr>
          <a:xfrm>
            <a:off x="666360" y="4684680"/>
            <a:ext cx="5335560" cy="444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ftr" idx="47"/>
          </p:nvPr>
        </p:nvSpPr>
        <p:spPr>
          <a:xfrm>
            <a:off x="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marL="216000"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omponent Regional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 type="sldNum" idx="48"/>
          </p:nvPr>
        </p:nvSpPr>
        <p:spPr>
          <a:xfrm>
            <a:off x="377820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280CA565-1B0D-4B1C-8A58-4C4F0FEBE7DB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663480" y="741240"/>
            <a:ext cx="5340600" cy="369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66360" y="4684680"/>
            <a:ext cx="5335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Symbol zastępczy numeru slajdu 3"/>
          <p:cNvSpPr/>
          <p:nvPr/>
        </p:nvSpPr>
        <p:spPr>
          <a:xfrm>
            <a:off x="377820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4BA241E4-4C85-40DE-AA1E-EADC01E5142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663480" y="741240"/>
            <a:ext cx="5340600" cy="36990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66360" y="4684680"/>
            <a:ext cx="5335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Symbol zastępczy numeru slajdu 3"/>
          <p:cNvSpPr/>
          <p:nvPr/>
        </p:nvSpPr>
        <p:spPr>
          <a:xfrm>
            <a:off x="377820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894D6EA6-3F46-45B2-B7DC-3902171D32B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663480" y="741240"/>
            <a:ext cx="5340600" cy="369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66360" y="4684680"/>
            <a:ext cx="5335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Symbol zastępczy numeru slajdu 3"/>
          <p:cNvSpPr/>
          <p:nvPr/>
        </p:nvSpPr>
        <p:spPr>
          <a:xfrm>
            <a:off x="377820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EAEF1517-F024-4C6B-A229-BB55F82E881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663480" y="741240"/>
            <a:ext cx="5340600" cy="36990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66360" y="4684680"/>
            <a:ext cx="5335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Symbol zastępczy numeru slajdu 3"/>
          <p:cNvSpPr/>
          <p:nvPr/>
        </p:nvSpPr>
        <p:spPr>
          <a:xfrm>
            <a:off x="377820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CEF3CDA8-BDF5-46F7-ABB3-5C79D78CDE8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B4E13-FC1E-450B-8A5D-9BDCAE6118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BA506-4BE3-4DE6-A99F-7912D88F792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E6EC3-EC20-4005-9D58-82E6F9F0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C10DE-DA7C-4906-BCAA-B6A3C7CF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035F3-F87E-40C6-8992-EE2CE494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C9F4B-0160-4D15-A615-5BC405F1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3D5B9-0DBB-4308-A040-DE6B732B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84A58-0685-4F2B-A847-7061BC2F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E740B-178D-4FD5-8A16-CF5476D8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E725F-6A53-4B5B-A0F8-32C0B4F49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BC5CF-5EB7-4F00-B121-2FD7936B8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F2B51-4868-42B9-853E-D547E1974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B3EF5-E27E-476B-8FFB-296CDC54A83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FBB99-2B01-40C3-B497-EB2561BB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9D249-45B6-47E5-B756-EE4A64F9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47315-D6AA-4CC4-9AFB-7BDDBBA0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33D54-5190-43D9-B4DD-2142BDAF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92FD7-3462-4C99-8321-4F270CC6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5F00E-B114-4397-BAE3-FD295113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CEC8A-B0E9-4645-AC6D-A47307AB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614B3-9274-4964-BC41-67BF4B25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730B7-DFDF-46FC-ABEA-14EB749E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E0183-85BC-4F5F-A0D9-C016D51B3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42C47-F7ED-45FC-825E-7923913DF2B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2D9C9-F6CB-4FA0-8D72-0C66A864F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C4DB8-AC93-4B42-AA5E-17DA34F56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AB5D6-B39D-41A1-9A44-96484D51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B5515-BDA1-4065-91C7-5BFAE4F8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964D6-907A-40C1-848F-07C92073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99E97-6A67-4B46-8191-B5A42042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D7658-750D-4C45-9C94-AF6E5096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B9185-AAD9-41F6-A2A8-A2A9F2D3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6BC34-9198-471A-A64B-6A10FDD3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D6F7E-0B21-4A96-90FC-F6C12005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FC0A4-8FC8-4DE8-97F0-EE5435AD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76891-768E-4E1B-B3B9-EC561DB85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46844-37DC-40DA-A6A5-C75866105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A35747-4D25-4706-AE8A-2F8C6C822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EDC546-0E60-4D12-AEF5-2D89BEA6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333EF1-CD66-40CE-B60B-1CF00950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C7F7D7-E7CB-43B8-AFE4-C1EB633A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7A26FD-E078-441E-87D9-11E3B35B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C60AFA-7B41-4B50-A144-844172B7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B61586-04DD-456C-9321-0FB31198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AB0EA-AF17-457F-9678-4C9FBB0C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D6CCE6-13EE-4917-BC5E-9F229AFC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A57E6A-3BBB-435E-87F9-66C3B327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85008B-1ECB-47C9-B5C6-1A19A8738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8EB2D5-FE6A-4D54-9C3C-3718145EB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2AC0A1-DD6C-42C9-80EC-735E63BED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8F7650-34E0-4545-AFD1-B93DB8D2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74F3E6-CA7A-4F71-B3DF-61AC5C8A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3AE221-AC83-4A04-A34A-02728E56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F5A981-11B8-4829-896E-AD14CE89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C59B2E-2D18-4ACB-82B5-AB755D01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97E947-BA4C-4714-A1A5-27585A90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447078-DB4F-4AA3-8B17-CC54AC32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F27E15-47C7-40A7-B56E-752318C4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2B7BD9-A78C-4F48-A856-DBD39289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D07074-0CDC-4EC0-B300-1DA363DD8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AA5E02-EB57-416D-BB4D-0C74B85B1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C8C2BA-5BFA-42B7-B1DF-CB1F423EA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6502FD-F22D-4AC5-B869-C3E74948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A8F9C9-B0ED-4F75-AAB6-AAA55A45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E46A66-A1DB-4512-8F88-C2EC96AD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2FB14-29EA-4BFF-9629-6E9DE52D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8B40A-A853-4CE5-B7FB-BEEE5768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700CA-1D57-439A-8D85-62E7474C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E9D0F7-119B-4FC0-8ADF-9C50456E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B6DBC-D21C-4F1F-AC71-36C8D037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831CD3-519B-4160-B394-ED160649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7C033C-0D35-4FBA-A78C-6CEE4A29D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62487E-F2D6-4AB5-8237-E7BE6DC8E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8312AA-041A-4DB8-9DAD-56F291CAF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8155A7-675A-4970-AD09-2D6FFE9A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CE5DEA-F769-46E1-B6FE-B7FD8992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87AE89-CC9D-4211-8107-5B8B6B2E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4328DB-41F3-4952-BAC5-A99C6EAE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44A981-8002-41BF-A34F-1F3FAF4E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B41C68-51F7-4C31-97AF-5C0CDE4A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C09CC0-AC54-4B1E-A1B5-EE9A0E31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F37849-F3D5-4F06-990F-90C192C0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F2DB67-3BB5-40D9-80A9-CC6FC574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3874DF-CC85-46F9-9950-927F84CBE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AC222F-63D5-4529-89F5-FC61150C2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063066-CBD4-4E30-BCC0-7019CA385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88D840-E34D-40ED-B97A-DE829C29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957C6C-4CFF-46D5-BC6B-771ED167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8C1EE6-9D13-4260-AE5F-BB981BBC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B969E6-9DBA-40EA-9DD1-C5AAD434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955164-D46A-4B41-9DDC-536C2B8F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51B0A3-5EF4-428C-B66A-E57D9A40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B43EED-6FA1-4E6E-B987-BBD0C1F4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56A4CD-B63B-48A1-8F67-0A58EDC8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408DB1-A9A9-4ED3-8538-ECFD66EC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1B0ACD-F3A9-4172-A50D-2143526E5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6B4AE1-5F2D-44FB-B8BE-210DCCCA7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8B0756-5508-4C05-AAE1-6D963ECFB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72B1EC-08C7-4FCB-BA2C-815880A3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DC1244-C8F7-4C01-812C-AF6C2001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FD8C90-B501-443A-95BF-DD8B6EBB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AE7DAF-33B0-4315-AD93-F0254C2A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54F8F6-C1D4-4363-8DA5-861C4E2F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2E8A33-876C-4FB7-965F-6D27DA32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ADA84-99EB-4560-963C-4D063B7D94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C9AC6E-C6B7-4978-9587-276304E2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EDB079-00B1-4E8E-A0EB-8B525234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6871CA-3217-4C7C-BBFE-08755D76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3175FD-8091-4CB7-AC87-1AC77A1B9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2AD385-4206-4231-BC36-ECE2FC769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A6D457-D9BD-4A14-8D63-F0CCFDD2A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80569B-A339-4DBD-A872-B38D07EB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4BF2C6-CA28-4C2E-BAC1-FBE9A1F2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4065C3-D18D-4888-9E36-FA69B1FA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A3C0F5-14BC-4CF6-9ACF-725D2B79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076E03-8E9C-4CA4-B110-99EA6140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C523BF-4B95-43A9-8039-D1F8FBD3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DA4078-17EE-4835-B1CF-FB22CB8D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0332CD-6E57-4486-87A6-DE9A462A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A11E8C-7325-4DA1-A3C6-B8ED0B9F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25921F-CB9B-4AB4-BC04-5F83912E6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D52289-B46D-475B-AFFC-0E5068A34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241E4-3563-4E7E-90A5-7C8A6763E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B128A7-EE04-4596-B17A-7564E66F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164D4B-40E8-487F-BC72-D6426444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68AD5-1827-454F-BB3E-5B991F2B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A14E6E-BE23-4C67-8B3B-7195F738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25AAE-898E-4494-B417-42EBB3FE338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6638A-C87B-4F21-A532-C1BF21CE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BDA1B-7E96-43AC-989F-22133C11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81779-C64F-45F7-8753-22D0B2B4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498D3-E8F1-4F17-9A59-9A7A34D7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63B97-9CF9-4559-BA3F-882D4BF9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33014-D3AD-432E-A47C-05CA79E49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FC2A4-06D8-482A-A7C0-2A8BFD544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97F34-C607-4432-BF02-BAA278751FF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7FB285-EAE6-4E5F-B43D-B7A962D42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16602-E7AD-477B-8EAE-6A6984B70A6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85C094-3134-47FA-8EE9-AF488F3A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236C1B-B0B3-4E1B-A332-D2D9382E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E81404-484D-4A6E-A04A-3E70FAF3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03981B-3C45-491E-BCF1-64F45BD1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A81691-641D-4FF2-A010-D5071B4F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CA34DA-11D6-4017-A871-8A01B315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36F80B-D412-444C-8CC8-97C76257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2C0F59-4A3F-4BD6-B07E-8B07C869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D29550-AD5F-4170-8C0D-7B7F46BC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AB88BA-F3F6-43F7-9BD7-E3661CF9B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F8B25-8DC1-4970-86E0-402B137AA84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CFF4FB-DB48-4A4A-A82C-482834D48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0DBFDB-CE54-418E-858C-E5A877AA913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6A261B-6B67-4692-8D12-5A47661E06F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B975E0-B9B8-4135-A284-1E738604A3D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1DC7F9-74CC-47E3-A1C0-35E75DCF2BD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E204E0-91E5-40A6-9F3A-7BF9DEC90C0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9FD26F-F2F8-4408-B58E-C8886B86712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695CAA-FA1B-498B-A907-DD2F2A1C7B7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A90549-F476-4B32-B71A-D979E1DE086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CE236D-3060-4B18-90C9-BF30AFC916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93330-D6BA-4DDD-BC9A-40F4B210655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ED57FC-E1D7-46A1-A449-B31768B66DF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1335F9-E46A-4201-801C-E6AA745BEA6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9F94D8-3245-40C5-8F80-6045DED32F0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51558-BAB8-4B6C-AC19-984D15C018F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54FC5-8F57-4184-A35E-E5DF8F2AFBC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D965D-8168-43A4-8B38-180FB5F4F47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7FBFC-BDB9-4299-B3AD-86996328A67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0638F-C64B-40BF-9AD9-52E659B7DF2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1ECE8-783F-4766-8DA3-95D6E2A6547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7A909-FCBB-4F50-84D7-E22F3D25FC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967FE-7201-410B-AA2E-05EA52B6966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32094-48B5-4035-AA25-F7C37575268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A80A6-E047-47D1-A57A-FA0B2489467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5C5D8-15C4-4BB0-8EB2-DB2263D4568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CBCEE-2BEE-4B38-BBA6-6B342AC0CD3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1CF34-F254-4E4A-BB58-FFCFC797DFF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1AB27-30BE-4787-B4B2-E51A2C361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D406E-67FB-4559-BF25-9B380DFF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F07AF-0536-4B40-A596-925B6CCB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74A1A-5F37-4F90-8505-38E2E52D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FC90F-E191-4B26-ACE0-FD7D7F56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5C745-964C-482B-A53E-DD3837C8CCB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E8663-A72F-426F-AA90-F0C1C0E5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C120E-BD4F-4CE9-9F9A-59747A60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E63E7-FAD3-4DCE-B87B-B442F121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B0550-79A9-4F39-AD91-6A5CAD3E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5F71F-C4B8-4A1F-B444-3A4BE505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2673D-E3A4-4182-A79B-52BEC3E07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6B945-C50D-457C-BF19-574FFF8B8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D1A89-844D-41CE-884A-42F148F61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67B43-4B10-40AD-A4B7-6004BB79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DD159-5146-4871-9523-5510C93D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61B7-686E-413D-B7EC-300DD7CC4BA6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ounded Rectangle 13"/>
          <p:cNvSpPr/>
          <p:nvPr/>
        </p:nvSpPr>
        <p:spPr>
          <a:xfrm>
            <a:off x="247680" y="228600"/>
            <a:ext cx="942012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14"/>
          <p:cNvSpPr/>
          <p:nvPr/>
        </p:nvSpPr>
        <p:spPr>
          <a:xfrm>
            <a:off x="6551640" y="4203720"/>
            <a:ext cx="311616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18"/>
          <p:cNvSpPr/>
          <p:nvPr/>
        </p:nvSpPr>
        <p:spPr>
          <a:xfrm>
            <a:off x="2836800" y="4075200"/>
            <a:ext cx="600732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22"/>
          <p:cNvSpPr/>
          <p:nvPr/>
        </p:nvSpPr>
        <p:spPr>
          <a:xfrm>
            <a:off x="3063960" y="4087800"/>
            <a:ext cx="59245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26"/>
          <p:cNvSpPr/>
          <p:nvPr/>
        </p:nvSpPr>
        <p:spPr>
          <a:xfrm>
            <a:off x="6076800" y="4073400"/>
            <a:ext cx="358308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10"/>
          <p:cNvSpPr/>
          <p:nvPr/>
        </p:nvSpPr>
        <p:spPr>
          <a:xfrm>
            <a:off x="228600" y="4059360"/>
            <a:ext cx="945036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19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EA0F-C01B-437E-8571-A866F6DA55E6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0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1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92EB-14B3-4E89-82B7-E533050CB5FA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449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2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7007-891F-44A4-A01A-FA2172B60ADA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3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4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7DF5-2A4A-46C5-9AF5-432620D2E963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497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25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DC31-6113-4073-BF12-D61504CC40F7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26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27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EB18-48DB-42D3-A5A0-5F13C2E31D62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545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28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6B10-4284-497E-97F0-87CBDE0123C3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29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0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A29F-5592-410B-AA0B-F323796E3FF6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ounded Rectangle 11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5"/>
          <p:cNvGrpSpPr/>
          <p:nvPr/>
        </p:nvGrpSpPr>
        <p:grpSpPr>
          <a:xfrm>
            <a:off x="228600" y="714240"/>
            <a:ext cx="9450360" cy="1330560"/>
            <a:chOff x="228600" y="714240"/>
            <a:chExt cx="9450360" cy="1330560"/>
          </a:xfrm>
        </p:grpSpPr>
        <p:sp>
          <p:nvSpPr>
            <p:cNvPr id="593" name="Freeform 14"/>
            <p:cNvSpPr/>
            <p:nvPr/>
          </p:nvSpPr>
          <p:spPr>
            <a:xfrm>
              <a:off x="6550200" y="85860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8"/>
            <p:cNvSpPr/>
            <p:nvPr/>
          </p:nvSpPr>
          <p:spPr>
            <a:xfrm>
              <a:off x="2836800" y="73152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2"/>
            <p:cNvSpPr/>
            <p:nvPr/>
          </p:nvSpPr>
          <p:spPr>
            <a:xfrm>
              <a:off x="3063960" y="74268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26"/>
            <p:cNvSpPr/>
            <p:nvPr/>
          </p:nvSpPr>
          <p:spPr>
            <a:xfrm>
              <a:off x="6076800" y="73008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0"/>
            <p:cNvSpPr/>
            <p:nvPr/>
          </p:nvSpPr>
          <p:spPr>
            <a:xfrm>
              <a:off x="228600" y="71424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31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94DC-F28A-4B7F-A6B1-2024B040D0A2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32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33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6298-E8DC-4DBF-A48B-4FBEA27595BF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ounded Rectangle 14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Group 23"/>
          <p:cNvGrpSpPr/>
          <p:nvPr/>
        </p:nvGrpSpPr>
        <p:grpSpPr>
          <a:xfrm>
            <a:off x="228600" y="714240"/>
            <a:ext cx="9450360" cy="1332000"/>
            <a:chOff x="228600" y="714240"/>
            <a:chExt cx="9450360" cy="1332000"/>
          </a:xfrm>
        </p:grpSpPr>
        <p:sp>
          <p:nvSpPr>
            <p:cNvPr id="641" name="Freeform 14"/>
            <p:cNvSpPr/>
            <p:nvPr/>
          </p:nvSpPr>
          <p:spPr>
            <a:xfrm>
              <a:off x="6559560" y="860040"/>
              <a:ext cx="3119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8"/>
            <p:cNvSpPr/>
            <p:nvPr/>
          </p:nvSpPr>
          <p:spPr>
            <a:xfrm>
              <a:off x="2840040" y="731520"/>
              <a:ext cx="601524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2"/>
            <p:cNvSpPr/>
            <p:nvPr/>
          </p:nvSpPr>
          <p:spPr>
            <a:xfrm>
              <a:off x="3066840" y="742680"/>
              <a:ext cx="59310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6"/>
            <p:cNvSpPr/>
            <p:nvPr/>
          </p:nvSpPr>
          <p:spPr>
            <a:xfrm>
              <a:off x="6083280" y="730080"/>
              <a:ext cx="358920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8"/>
            <p:cNvSpPr/>
            <p:nvPr/>
          </p:nvSpPr>
          <p:spPr>
            <a:xfrm>
              <a:off x="228600" y="714240"/>
              <a:ext cx="94503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34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6171-8C69-4C61-B3D5-D97B2040506B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35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36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2AFD-9E8A-4D67-A3E4-895744ADC6FA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ounded Rectangle 14"/>
          <p:cNvSpPr/>
          <p:nvPr/>
        </p:nvSpPr>
        <p:spPr>
          <a:xfrm>
            <a:off x="247680" y="228600"/>
            <a:ext cx="942012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8"/>
          <p:cNvGrpSpPr/>
          <p:nvPr/>
        </p:nvGrpSpPr>
        <p:grpSpPr>
          <a:xfrm>
            <a:off x="228600" y="5354640"/>
            <a:ext cx="9450360" cy="1330200"/>
            <a:chOff x="228600" y="5354640"/>
            <a:chExt cx="9450360" cy="1330200"/>
          </a:xfrm>
        </p:grpSpPr>
        <p:sp>
          <p:nvSpPr>
            <p:cNvPr id="689" name="Freeform 14"/>
            <p:cNvSpPr/>
            <p:nvPr/>
          </p:nvSpPr>
          <p:spPr>
            <a:xfrm>
              <a:off x="6559560" y="5499000"/>
              <a:ext cx="3119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8"/>
            <p:cNvSpPr/>
            <p:nvPr/>
          </p:nvSpPr>
          <p:spPr>
            <a:xfrm>
              <a:off x="2840040" y="5371920"/>
              <a:ext cx="601524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2"/>
            <p:cNvSpPr/>
            <p:nvPr/>
          </p:nvSpPr>
          <p:spPr>
            <a:xfrm>
              <a:off x="3066840" y="5383080"/>
              <a:ext cx="59310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6"/>
            <p:cNvSpPr/>
            <p:nvPr/>
          </p:nvSpPr>
          <p:spPr>
            <a:xfrm>
              <a:off x="6083280" y="5370480"/>
              <a:ext cx="35892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0"/>
            <p:cNvSpPr/>
            <p:nvPr/>
          </p:nvSpPr>
          <p:spPr>
            <a:xfrm>
              <a:off x="228600" y="5354640"/>
              <a:ext cx="94503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37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B757-0895-486A-8723-28DE2F6447BC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38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39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D68A-EB30-4A66-B658-A01C2F751229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737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40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9B54-0449-4F85-A106-B56DC8DCD7E2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41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42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4545-14CF-44BD-A457-226B30F7CBD1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ounded Rectangle 20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14"/>
          <p:cNvGrpSpPr/>
          <p:nvPr/>
        </p:nvGrpSpPr>
        <p:grpSpPr>
          <a:xfrm>
            <a:off x="228600" y="714240"/>
            <a:ext cx="9450360" cy="1332000"/>
            <a:chOff x="228600" y="714240"/>
            <a:chExt cx="9450360" cy="1332000"/>
          </a:xfrm>
        </p:grpSpPr>
        <p:sp>
          <p:nvSpPr>
            <p:cNvPr id="785" name="Freeform 14"/>
            <p:cNvSpPr/>
            <p:nvPr/>
          </p:nvSpPr>
          <p:spPr>
            <a:xfrm>
              <a:off x="6559560" y="860040"/>
              <a:ext cx="3119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8"/>
            <p:cNvSpPr/>
            <p:nvPr/>
          </p:nvSpPr>
          <p:spPr>
            <a:xfrm>
              <a:off x="2840040" y="731520"/>
              <a:ext cx="601524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22"/>
            <p:cNvSpPr/>
            <p:nvPr/>
          </p:nvSpPr>
          <p:spPr>
            <a:xfrm>
              <a:off x="3066840" y="742680"/>
              <a:ext cx="59310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26"/>
            <p:cNvSpPr/>
            <p:nvPr/>
          </p:nvSpPr>
          <p:spPr>
            <a:xfrm>
              <a:off x="6083280" y="730080"/>
              <a:ext cx="358920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9"/>
            <p:cNvSpPr/>
            <p:nvPr/>
          </p:nvSpPr>
          <p:spPr>
            <a:xfrm>
              <a:off x="228600" y="714240"/>
              <a:ext cx="94503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4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89CD-DAC2-4755-A045-56C31B3DA5DA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4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4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578E-16E9-4147-922E-3269BFF3C68E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prezentacja_podtytul"/>
          <p:cNvPicPr/>
          <p:nvPr/>
        </p:nvPicPr>
        <p:blipFill>
          <a:blip r:embed="rId2"/>
          <a:stretch/>
        </p:blipFill>
        <p:spPr>
          <a:xfrm>
            <a:off x="-203040" y="-139680"/>
            <a:ext cx="10312200" cy="7137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639800" y="1600200"/>
            <a:ext cx="77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84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8E49-5E63-4C5F-86EC-8DFDD39DC074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Komponent Central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6513-EB97-4DA5-A73C-E652BFE1C10B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32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prezentacja_podtytul"/>
          <p:cNvPicPr/>
          <p:nvPr/>
        </p:nvPicPr>
        <p:blipFill>
          <a:blip r:embed="rId5"/>
          <a:stretch/>
        </p:blipFill>
        <p:spPr>
          <a:xfrm>
            <a:off x="-203040" y="-139680"/>
            <a:ext cx="10312200" cy="7137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74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prezentacja_tytul"/>
          <p:cNvPicPr/>
          <p:nvPr/>
        </p:nvPicPr>
        <p:blipFill>
          <a:blip r:embed="rId5"/>
          <a:stretch/>
        </p:blipFill>
        <p:spPr>
          <a:xfrm>
            <a:off x="0" y="1440"/>
            <a:ext cx="9906120" cy="6855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znak_KAPITAL_LUDZKI"/>
          <p:cNvPicPr/>
          <p:nvPr/>
        </p:nvPicPr>
        <p:blipFill>
          <a:blip r:embed="rId6"/>
          <a:stretch/>
        </p:blipFill>
        <p:spPr>
          <a:xfrm>
            <a:off x="2143080" y="4716360"/>
            <a:ext cx="3457800" cy="1683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6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7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8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20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ftr" idx="9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0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63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ftr" idx="1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ounded Rectangle 15"/>
          <p:cNvSpPr/>
          <p:nvPr/>
        </p:nvSpPr>
        <p:spPr>
          <a:xfrm>
            <a:off x="247680" y="228600"/>
            <a:ext cx="942012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9"/>
          <p:cNvGrpSpPr/>
          <p:nvPr/>
        </p:nvGrpSpPr>
        <p:grpSpPr>
          <a:xfrm>
            <a:off x="228600" y="5354640"/>
            <a:ext cx="9450360" cy="1330200"/>
            <a:chOff x="228600" y="5354640"/>
            <a:chExt cx="9450360" cy="1330200"/>
          </a:xfrm>
        </p:grpSpPr>
        <p:sp>
          <p:nvSpPr>
            <p:cNvPr id="306" name="Freeform 14"/>
            <p:cNvSpPr/>
            <p:nvPr/>
          </p:nvSpPr>
          <p:spPr>
            <a:xfrm>
              <a:off x="6559560" y="5499000"/>
              <a:ext cx="3119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"/>
            <p:cNvSpPr/>
            <p:nvPr/>
          </p:nvSpPr>
          <p:spPr>
            <a:xfrm>
              <a:off x="2840040" y="5371920"/>
              <a:ext cx="601524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2"/>
            <p:cNvSpPr/>
            <p:nvPr/>
          </p:nvSpPr>
          <p:spPr>
            <a:xfrm>
              <a:off x="3066840" y="5383080"/>
              <a:ext cx="59310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6"/>
            <p:cNvSpPr/>
            <p:nvPr/>
          </p:nvSpPr>
          <p:spPr>
            <a:xfrm>
              <a:off x="6083280" y="5370480"/>
              <a:ext cx="35892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0"/>
            <p:cNvSpPr/>
            <p:nvPr/>
          </p:nvSpPr>
          <p:spPr>
            <a:xfrm>
              <a:off x="228600" y="5354640"/>
              <a:ext cx="94503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29C8D-E501-4DD7-9EC7-2CB1DA7668C0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1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1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9A8A-46C3-4DE3-81C4-50132AD3C956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354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16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A5CE-305A-4E35-9AA9-D9C9AD84903E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17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18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5C0F-77B6-403A-A5FA-10170BAEB367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9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9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9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9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9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9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9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72880" y="259920"/>
            <a:ext cx="8855280" cy="597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pl-PL" sz="4000" spc="-1" strike="noStrike">
                <a:solidFill>
                  <a:srgbClr val="ffffff"/>
                </a:solidFill>
                <a:latin typeface="Candara"/>
              </a:rPr>
              <a:t>Kontraktowanie</a:t>
            </a:r>
            <a:br>
              <a:rPr sz="4000"/>
            </a:br>
            <a:r>
              <a:rPr b="1" lang="pl-PL" sz="4000" spc="-1" strike="noStrike">
                <a:solidFill>
                  <a:srgbClr val="ffffff"/>
                </a:solidFill>
                <a:latin typeface="Candara"/>
              </a:rPr>
              <a:t>świadczeń opieki zdrowotnej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pl-PL" sz="2400" spc="-1" strike="noStrike" u="sng">
                <a:solidFill>
                  <a:srgbClr val="ffffff"/>
                </a:solidFill>
                <a:uFillTx/>
                <a:latin typeface="Candara"/>
              </a:rPr>
              <a:t>w rodzaju</a:t>
            </a:r>
            <a:r>
              <a:rPr b="0" lang="pl-PL" sz="2400" spc="-1" strike="noStrike">
                <a:solidFill>
                  <a:srgbClr val="ffffff"/>
                </a:solidFill>
                <a:latin typeface="Candara"/>
              </a:rPr>
              <a:t>: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200"/>
            </a:br>
            <a:br>
              <a:rPr sz="2200"/>
            </a:br>
            <a:r>
              <a:rPr b="0" lang="pl-PL" sz="4000" spc="-1" strike="noStrike">
                <a:solidFill>
                  <a:srgbClr val="ff0000"/>
                </a:solidFill>
                <a:latin typeface="Candara"/>
              </a:rPr>
              <a:t>-</a:t>
            </a:r>
            <a:r>
              <a:rPr b="0" lang="pl-PL" sz="40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0" lang="pl-PL" sz="4000" spc="-1" strike="noStrike">
                <a:solidFill>
                  <a:srgbClr val="ff0000"/>
                </a:solidFill>
                <a:latin typeface="Candara"/>
              </a:rPr>
              <a:t>aspekty merytoryczne</a:t>
            </a:r>
            <a:br>
              <a:rPr sz="2200"/>
            </a:br>
            <a:br>
              <a:rPr sz="2200"/>
            </a:br>
            <a:br>
              <a:rPr sz="22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272880" y="1052280"/>
            <a:ext cx="9288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73e87"/>
                </a:solidFill>
                <a:latin typeface="Candara"/>
              </a:rPr>
              <a:t>Świadczenia gwarantowane realizowane w warunkach ambulatoryjnych w poradni medycyny paliatywnej obejmują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73e87"/>
                </a:solidFill>
                <a:latin typeface="Candara"/>
              </a:rPr>
              <a:t>1) porady i konsultacje lekarskie w poradni lub w domu świadczeniobiorcy, w tym również świadczeniobiorcy, który ni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73e87"/>
                </a:solidFill>
                <a:latin typeface="Candara"/>
              </a:rPr>
              <a:t>został zakwalifikowany do hospicjum domowego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73e87"/>
                </a:solidFill>
                <a:latin typeface="Candara"/>
              </a:rPr>
              <a:t>2) porady psychologa w poradni lub w domu świadczeniobiorcy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73e87"/>
                </a:solidFill>
                <a:latin typeface="Candara"/>
              </a:rPr>
              <a:t>3) świadczenia pielęgniarskie w poradni lub w domu świadczeniobiorcy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3" name="Symbol zastępczy numeru slajdu 4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BCBF-D985-48DC-8048-86FE438528B0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r>
              <a:rPr b="0" lang="pl-PL" sz="2800" spc="-1" strike="noStrike">
                <a:solidFill>
                  <a:srgbClr val="7030a0"/>
                </a:solidFill>
                <a:latin typeface="Candara"/>
              </a:rPr>
              <a:t>„ZDOLNOŚĆ KONTRAKTOWA”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65" name="Symbol zastępczy numeru slajdu 4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1701-1E80-491A-A2A1-AB16A17600A7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rostokąt 6"/>
          <p:cNvSpPr/>
          <p:nvPr/>
        </p:nvSpPr>
        <p:spPr>
          <a:xfrm>
            <a:off x="344520" y="5335560"/>
            <a:ext cx="9145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862aa"/>
                </a:solidFill>
                <a:latin typeface="Arial"/>
                <a:ea typeface="Arial"/>
              </a:rPr>
              <a:t>*/ ROZPORZĄDZENIE Ministra Zdrowia z dnia 17 maja 2012 r. w sprawie systemu resortowych kodów identyfikacyjnych oraz szczegółowego sposobu ich nadawania (Dz.U. z 2012 r. poz. 594), zmienione rozporządzeniem Ministra Zdrowia z dnia 27 kwietnia 2017 r. w sprawie systemu resortowych kodów identyfikacyjnych oraz szczegółowego sposobu ich nadawania (Dz.U. z 2017 r. poz. 999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7" name=""/>
          <p:cNvGraphicFramePr/>
          <p:nvPr/>
        </p:nvGraphicFramePr>
        <p:xfrm>
          <a:off x="452520" y="1989000"/>
          <a:ext cx="8929440" cy="3273480"/>
        </p:xfrm>
        <a:graphic>
          <a:graphicData uri="http://schemas.openxmlformats.org/drawingml/2006/table">
            <a:tbl>
              <a:tblPr/>
              <a:tblGrid>
                <a:gridCol w="1546200"/>
                <a:gridCol w="1752480"/>
                <a:gridCol w="1736640"/>
                <a:gridCol w="1946520"/>
                <a:gridCol w="1947600"/>
              </a:tblGrid>
              <a:tr h="816120">
                <a:tc gridSpan="5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Kody resortowe*/  komórek organizacyjnych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6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adnia medycyny paliatywne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picjum domow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picjum domowe dla dzieci i młodzież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INATALNA OPIEKA PALIATYW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adnia medycyny paliatywnej, hospicjum domowe dla dzieci, hospicjum stacjona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dział medycyny paliatywnej/hospicjum stacjona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4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0, 2181, 21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84/41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0000"/>
                </a:solidFill>
                <a:latin typeface="Times New Roman"/>
              </a:rPr>
              <a:t>WAŻNE!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Wpis komórki / miejsca realizacji świadczeń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na obszarze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kontraktowania świadczeń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w rejestrze podmiotów wykonujących działalność leczniczą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344160" y="2674440"/>
            <a:ext cx="92883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W zakresie koniecznym do wykonania świadczeń gwarantowanych świadczeniodawca zapewnia świadczeniobiorcy nieodpłatnie: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1)  badania diagnostyczne;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2)  w warunkach stacjonarnych – leki i wyroby medyczne,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3)  transport sanitarny wg. określonych zasad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2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2CC5-9F02-48BB-8F41-CB352462B14F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0000"/>
                </a:solidFill>
                <a:latin typeface="Times New Roman"/>
              </a:rPr>
              <a:t>WAŻNE!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Wymagane umowy podwykonawcze na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862aa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badania diagnostyczn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862aa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badania laboratoryjne w tym mikrobiologiczn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862aa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transport sanitarny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862aa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495000" y="1599840"/>
            <a:ext cx="843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4a8a4"/>
                </a:solidFill>
                <a:latin typeface="Candara"/>
              </a:rPr>
              <a:t>Wymagane warunki do realizacji gwarantowanych świadczeń opieki zdrowotnej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Załącznik nr 2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Warunki realizacji świadczeń gwarantowanych </a:t>
            </a:r>
            <a:br>
              <a:rPr sz="2800"/>
            </a:b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z zakresu opieki paliatywnej i hospicyjnej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7" name="Symbol zastępczy numeru slajdu 4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F0DB-C133-4F5D-8FB7-135A712F9749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344160" y="1599840"/>
            <a:ext cx="921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ff0000"/>
                </a:solidFill>
                <a:uFillTx/>
                <a:latin typeface="Candara"/>
              </a:rPr>
              <a:t>Wymagania</a:t>
            </a: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 dotyczą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liczby i kwalifikacji personelu,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sprzętu medycznego i pomocniczego,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innych warunków udzielania świadczeń gwarantowanych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0" name="Symbol zastępczy numeru slajdu 2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5AAA-FA6B-428B-B51A-589561A4C71D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344160" y="1599840"/>
            <a:ext cx="921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b87d6"/>
                </a:solidFill>
                <a:latin typeface="Candara"/>
              </a:rPr>
              <a:t>Świadczenia w oddziale medycyny paliatywnej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b87d6"/>
                </a:solidFill>
                <a:latin typeface="Candara"/>
              </a:rPr>
              <a:t>/hospicjum stacjonarnym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3" name="Symbol zastępczy numeru slajdu 2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1497-38E8-4CA5-A9F5-3420B1355029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775800" y="333000"/>
            <a:ext cx="8255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85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FC2F-2394-4CE0-985B-B06894F3263C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6" name=""/>
          <p:cNvGraphicFramePr/>
          <p:nvPr/>
        </p:nvGraphicFramePr>
        <p:xfrm>
          <a:off x="704880" y="1596960"/>
          <a:ext cx="8497800" cy="4280040"/>
        </p:xfrm>
        <a:graphic>
          <a:graphicData uri="http://schemas.openxmlformats.org/drawingml/2006/table">
            <a:tbl>
              <a:tblPr/>
              <a:tblGrid>
                <a:gridCol w="3311640"/>
                <a:gridCol w="5186160"/>
              </a:tblGrid>
              <a:tr h="93816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0000"/>
                          </a:solidFill>
                          <a:latin typeface="Candara"/>
                        </a:rPr>
                        <a:t>person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0000"/>
                          </a:solidFill>
                          <a:latin typeface="Candara"/>
                        </a:rPr>
                        <a:t>oddział medycyny paliatywnej/hospicjum stacjonar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3656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lekar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równoważnik 1 etatu przeliczenioweg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na 10 łóż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pielęgniar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nie wskazano paryte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psycholog, psycholog kliniczny, psychoonko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równoważnik 1/2 etatu przeliczenioweg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na 20 łóż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980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fizjoterapeu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równoważnik 1/4 etatu przeliczenioweg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na 10 łóż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opiekun medycz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nie wskazano paryte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888" name=""/>
          <p:cNvGraphicFramePr/>
          <p:nvPr/>
        </p:nvGraphicFramePr>
        <p:xfrm>
          <a:off x="631800" y="1728720"/>
          <a:ext cx="8424720" cy="4195800"/>
        </p:xfrm>
        <a:graphic>
          <a:graphicData uri="http://schemas.openxmlformats.org/drawingml/2006/table">
            <a:tbl>
              <a:tblPr/>
              <a:tblGrid>
                <a:gridCol w="5688000"/>
                <a:gridCol w="2736720"/>
              </a:tblGrid>
              <a:tr h="1922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przęt medyczny i pomocniczy - w miejscu udzielania świadcze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zw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ymagana liczb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łóżka szpitalne (zwykłe i łamane) o regulowanej wysokości, wyposażone w ruchome barierki zabezpieczające przed wypadnięci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godnie z rejestrem lub ofert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ace przeciwodleżyno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 podano przeliczn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ny sprzęt przeciwodleżynowy - w szczególnosci poduszki, podpórki, wałk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 podano przeliczn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rzęt ułatwiający pielęgnację - zintegrowany system do higieny ciała, podnośnik, parawany, pasy ślizgo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 podano przeliczn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centrator tlenu lub inne źródło tlenu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 najmniej 1 sztuka na każde rozpoczęte 3 łóż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sak elektryczn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 najmniej 1 sztuka na każde rozpoczęte 5 łóże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halato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 podano przeliczn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lukomet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 podano przeliczn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araty do pomiaru ciśnienia tętniczego krw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 podano przeliczn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mpy infuzyj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 najmniej 1 sztuka na każde rozpoczęte 15 łóże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le, laski, balkoniki, wózki inwalidzk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 podano przeliczn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przęt medyczny i pomocniczy - w lokalizacj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K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9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BAE1-C89C-4AF1-97DC-ECEF3354CF82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0" name="Picture 5" descr=""/>
          <p:cNvPicPr/>
          <p:nvPr/>
        </p:nvPicPr>
        <p:blipFill>
          <a:blip r:embed="rId1"/>
          <a:stretch/>
        </p:blipFill>
        <p:spPr>
          <a:xfrm>
            <a:off x="1208160" y="1052640"/>
            <a:ext cx="724860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 txBox="1"/>
          <p:nvPr/>
        </p:nvSpPr>
        <p:spPr>
          <a:xfrm>
            <a:off x="415440" y="2205000"/>
            <a:ext cx="9001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Candara"/>
              </a:rPr>
              <a:t>WYMAGANIA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1144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49"/>
              </a:spcBef>
              <a:buClr>
                <a:srgbClr val="31b6f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4a8a4"/>
                </a:solidFill>
                <a:latin typeface="Candara"/>
              </a:rPr>
              <a:t>wykaz gwarantowanych świadczeń opieki zdrowotnej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49"/>
              </a:spcBef>
              <a:buClr>
                <a:srgbClr val="31b6f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4a8a4"/>
                </a:solidFill>
                <a:latin typeface="Candara"/>
              </a:rPr>
              <a:t>wymagane warunki do ich realizacji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0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5596-F9AC-41F8-A2E7-2F546899B45C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344160" y="1599840"/>
            <a:ext cx="921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0620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Candara"/>
              </a:rPr>
              <a:t>Wymagania dotyczące personelu: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ndara"/>
              </a:rPr>
              <a:t>1) lekarz specjalista w dziedzinie medycyny paliatywnej, lub lekarz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andara"/>
              </a:rPr>
              <a:t>w trakcie specjalizacji w dziedzinie medycyny paliatywnej,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ndara"/>
              </a:rPr>
              <a:t>lub lekarz legitymujący się dokumentem ukończenia kursu zgodnego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andara"/>
              </a:rPr>
              <a:t>z programem specjalizacji w dziedzinie medycyny paliatywnej, dotyczącego problematyki bólu, objawów somatycznych i psychicznych, organizowanego przez Centrum Medyczne Kształcenia Podyplomowego lub wyższą uczelnię medyczną posiadającą uprawnienia do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ndara"/>
              </a:rPr>
              <a:t>kształcenia przeddyplomowego lub podyplomowego lekarzy lub jednostkę posiadającą akredytację do prowadzenia specjalizacji w dziedzinie medycyny paliatywnej − </a:t>
            </a:r>
            <a:r>
              <a:rPr b="0" lang="pl-PL" sz="2200" spc="-1" strike="noStrike">
                <a:solidFill>
                  <a:srgbClr val="ff0000"/>
                </a:solidFill>
                <a:latin typeface="Candara"/>
              </a:rPr>
              <a:t>równoważnik 1 etatu przeliczeniowego na 10 łóżek</a:t>
            </a:r>
            <a:r>
              <a:rPr b="0" lang="pl-PL" sz="2200" spc="-1" strike="noStrike">
                <a:solidFill>
                  <a:srgbClr val="000000"/>
                </a:solidFill>
                <a:latin typeface="Candara"/>
              </a:rPr>
              <a:t>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93" name="Symbol zastępczy numeru slajdu 2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5237-05CF-4851-8516-2FD4F0E13CA6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344160" y="1599840"/>
            <a:ext cx="921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ndara"/>
              </a:rPr>
              <a:t>Wymagania dotyczące personelu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pielęgniarka, która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a) ukończyła specjalizację w dziedzinie pielęgniarstwa opieki paliatywnej albo jest w trakcie tej specjalizacji lub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b) ukończyła kurs kwalifikacyjny w dziedzinie pielęgniarstwa opieki paliatywnej albo jest w trakcie tego kursu, lub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c) ukończyła kurs specjalistyczny w zakresie podstaw opieki paliatywnej albo jest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w trakcie tego kursu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0000"/>
                </a:solidFill>
                <a:latin typeface="Candara"/>
              </a:rPr>
              <a:t>– </a:t>
            </a:r>
            <a:r>
              <a:rPr b="0" lang="pl-PL" sz="2000" spc="-1" strike="noStrike">
                <a:solidFill>
                  <a:srgbClr val="ff0000"/>
                </a:solidFill>
                <a:latin typeface="Candara"/>
              </a:rPr>
              <a:t>co najmniej 25% czasu pracy ogółu pielęgniarek udzielających świadczeń u danego świadczeniodawcy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96" name="Symbol zastępczy numeru slajdu 2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8819-8E6A-4C9C-AE65-03E6F257BD02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344160" y="1599840"/>
            <a:ext cx="921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ndara"/>
              </a:rPr>
              <a:t>Wymagania dotyczące personelu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- psycholog lub psycholog posiadający tytuł specjalisty w dziedzinie psychologii klinicznej, lub psychoonkolog, którym jest osoba z wykształceniem psychologicznym lub medycznym, która ukończyła studia wyższe i uzyskała tytuł magistra lub równorzędny oraz ukończyła studia podyplomowe z psychoonkologii </a:t>
            </a:r>
            <a:r>
              <a:rPr b="0" lang="pl-PL" sz="2000" spc="-1" strike="noStrike">
                <a:solidFill>
                  <a:srgbClr val="ff0000"/>
                </a:solidFill>
                <a:latin typeface="Candara"/>
              </a:rPr>
              <a:t>− równoważnik 1/2 etatu przeliczeniowego na 20 łóżek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99" name="Symbol zastępczy numeru slajdu 2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5AAF-A7F6-48F3-8D02-4F7C7ED29539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1" name=""/>
          <p:cNvSpPr txBox="1"/>
          <p:nvPr/>
        </p:nvSpPr>
        <p:spPr>
          <a:xfrm>
            <a:off x="344160" y="1599840"/>
            <a:ext cx="921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Candara"/>
              </a:rPr>
              <a:t>Wymagania dotyczące personelu: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ndara"/>
              </a:rPr>
              <a:t>osoba, która: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ndara"/>
              </a:rPr>
              <a:t>a) rozpoczęła po dniu 30 września 2012 r. studia wyższe z zakresu fizjoterapii obejmujące co najmniej 2435 godzin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ndara"/>
              </a:rPr>
              <a:t>kształcenia w zakresie fizjoterapii i uzyskała tytuł licencjata lub dodatkowo co najmniej 1440 godzin kształcenia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ndara"/>
              </a:rPr>
              <a:t>w zakresie fizjoterapii i uzyskała tytuł magistra lub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ndara"/>
              </a:rPr>
              <a:t>b) rozpoczęła po dniu 31 grudnia 1997 r. studia wyższe na kierunku fizjoterapia, zgodnie ze standardami kształcenia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ndara"/>
              </a:rPr>
              <a:t>określonymi w odrębnych przepisach, i uzyskała tytuł licencjata lub magistra na tym kierunku, lub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ndara"/>
              </a:rPr>
              <a:t>c) rozpoczęła przed dniem 1 stycznia 1998 r. studia wyższe na kierunku rehabilitacja ruchowa lub rehabilitacja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ndara"/>
              </a:rPr>
              <a:t>i uzyskała tytuł magistra na tym kierunku, lub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ndara"/>
              </a:rPr>
              <a:t>d) rozpoczęła przed dniem 1 stycznia 1998 r. studia wyższe w Akademii Wychowania Fizycznego i uzyskała tytuł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ndara"/>
              </a:rPr>
              <a:t>magistra oraz ukończyła specjalizację I lub II stopnia w dziedzinie rehabilitacji ruchowej, lub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ndara"/>
              </a:rPr>
              <a:t>e) rozpoczęła przed dniem 1 stycznia 1980 r. studia wyższe na kierunku wychowanie fizyczne i uzyskała tytuł magistra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ndara"/>
              </a:rPr>
              <a:t>na tym kierunku oraz ukończyła w ramach studiów dwuletnią specjalizację z zakresu gimnastyki leczniczej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ndara"/>
              </a:rPr>
              <a:t>lub rehabilitacji ruchowej potwierdzoną legitymacją instruktora rehabilitacji ruchowej lub gimnastyki leczniczej,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ndara"/>
              </a:rPr>
              <a:t>lub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ndara"/>
              </a:rPr>
              <a:t>f) rozpoczęła przed dniem 1 stycznia 1980 r. studia wyższe na kierunku wychowanie fizyczne i uzyskała tytuł magistra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ndara"/>
              </a:rPr>
              <a:t>na tym kierunku oraz ukończyła 3-miesięczny kurs specjalizacyjny z rehabilitacji, lub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ndara"/>
              </a:rPr>
              <a:t>g) ukończyła szkołę policealną publiczną lub niepubliczną o uprawnieniach szkoły publicznej i uzyskała tytuł zawodowy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ndara"/>
              </a:rPr>
              <a:t>technik fizjoterapii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300" spc="-1" strike="noStrike">
                <a:solidFill>
                  <a:srgbClr val="ff0000"/>
                </a:solidFill>
                <a:latin typeface="Candara"/>
              </a:rPr>
              <a:t>– </a:t>
            </a:r>
            <a:r>
              <a:rPr b="1" lang="pl-PL" sz="1300" spc="-1" strike="noStrike">
                <a:solidFill>
                  <a:srgbClr val="ff0000"/>
                </a:solidFill>
                <a:latin typeface="Candara"/>
              </a:rPr>
              <a:t>równoważnik 1/4 etatu przeliczeniowego na 10 łóżek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02" name="Symbol zastępczy numeru slajdu 2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41B9-FF98-4C25-99CE-5380EE3D6F92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344160" y="1599840"/>
            <a:ext cx="921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07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ndara"/>
              </a:rPr>
              <a:t>Wymagania dotyczące personelu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osoba, która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rozpoczęła przed dniem 1 września 2012 r. i ukończyła zasadniczą szkołę zawodową publiczną lub niepubliczną o uprawnieniach szkoły publicznej oraz uzyskała dyplom potwierdzający kwalifikacje zawodowe w zawodzie opiekun medyczny lub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rozpoczęła po dniu 31 sierpnia 2012 r. i ukończyła kwalifikacyjny kurs zawodowy oraz uzyskała świadectwo lub dyplom potwierdzający kwalifikacje w zawodzie opiekun medyczny lub ukończyła szkołę policealną publiczną lub niepubliczną </a:t>
            </a:r>
            <a:br>
              <a:rPr sz="2400"/>
            </a:b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o uprawnieniach szkoły publicznej oraz uzyskała dyplom potwierdzający kwalifikacje zawodowe w zawodzie opiekun medyczny.”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05" name="Symbol zastępczy numeru slajdu 2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3472-E20C-48F6-B048-4F70824777F2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344160" y="1599840"/>
            <a:ext cx="921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Inne warunki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1) całodobowy dostęp przez 7 dni w tygodniu do świadczeń opieki zdrowotnej udzielanych przez lekarza, o którym mowa w ust. 1 pkt 1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2) całodobowe świadczenia opieki zdrowotnej udzielane przez pielęgniarkę przez 7 dni w tygodniu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08" name="Symbol zastępczy numeru slajdu 2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FB9C-27E4-4605-B44B-ED32393E04DB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44160" y="1599840"/>
            <a:ext cx="921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b87d6"/>
                </a:solidFill>
                <a:latin typeface="Candara"/>
              </a:rPr>
              <a:t>Świadczenia w hospicjum domowym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1" name="Symbol zastępczy numeru slajdu 2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5229-E309-4442-BEF2-6B84DCC63B49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775800" y="333000"/>
            <a:ext cx="8255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13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898C-4BF9-41CD-9078-A43F59591714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4" name=""/>
          <p:cNvGraphicFramePr/>
          <p:nvPr/>
        </p:nvGraphicFramePr>
        <p:xfrm>
          <a:off x="704880" y="2133720"/>
          <a:ext cx="8497800" cy="3608280"/>
        </p:xfrm>
        <a:graphic>
          <a:graphicData uri="http://schemas.openxmlformats.org/drawingml/2006/table">
            <a:tbl>
              <a:tblPr/>
              <a:tblGrid>
                <a:gridCol w="3311640"/>
                <a:gridCol w="5186160"/>
              </a:tblGrid>
              <a:tr h="84924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0000"/>
                          </a:solidFill>
                          <a:latin typeface="Candara"/>
                        </a:rPr>
                        <a:t>person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0000"/>
                          </a:solidFill>
                          <a:latin typeface="Candara"/>
                        </a:rPr>
                        <a:t>hospicjum domow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80496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lekar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równoważnik 1 etatu przeliczenioweg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na 30 świadczeniobiorc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pielęgniar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równoważnik 1 etatu przeliczenioweg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na 15 świadczeniobiorc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Psycholog, psycholog kliniczny, psychoonko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równoważnik 1/2 etatu przeliczenioweg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na 30 świadczeniobiorc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fizjoterapeu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równoważnik 1/4 etatu przeliczenioweg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na 15 świadczeniobiorc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br>
              <a:rPr sz="2800"/>
            </a:br>
            <a:r>
              <a:rPr b="0" lang="pl-PL" sz="2800" spc="-1" strike="noStrike">
                <a:solidFill>
                  <a:srgbClr val="ff0000"/>
                </a:solidFill>
                <a:latin typeface="Candara"/>
              </a:rPr>
              <a:t>hospicjum domowe/hospicjum domowe dla dzieci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916" name=""/>
          <p:cNvGraphicFramePr/>
          <p:nvPr/>
        </p:nvGraphicFramePr>
        <p:xfrm>
          <a:off x="631800" y="1728720"/>
          <a:ext cx="8424720" cy="3284640"/>
        </p:xfrm>
        <a:graphic>
          <a:graphicData uri="http://schemas.openxmlformats.org/drawingml/2006/table">
            <a:tbl>
              <a:tblPr/>
              <a:tblGrid>
                <a:gridCol w="5688000"/>
                <a:gridCol w="2736720"/>
              </a:tblGrid>
              <a:tr h="25560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przęt medyczny i pomocnicz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zw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ymagana liczb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centrator tlenu lub inne źródło tlenu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 najmniej 1 sztuka na 10 świadczeniobiorcó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sak elektryczn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 najmniej 1 sztuka na 10 świadczeniobiorcó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halato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 podano przeliczn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lukomet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 podano przeliczn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araty do pomiaru ciśnienia tętniczego krw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 podano przeliczn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mpy infuzyj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 najmniej 1 sztuka na 20 świadczeniobiorcó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le, laski, balkoniki, wózki inwalidzk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 podano przeliczn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seser pielęgniarsk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la każdej wykazanej w ofercie pielęgniark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7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FA39-AA53-4302-9242-8FA324EA2EF1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44160" y="1599840"/>
            <a:ext cx="921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TimesNewRoman"/>
              </a:rPr>
              <a:t>Inne warunki: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TimesNewRoman"/>
              </a:rPr>
              <a:t>1) całodobowy dostęp przez 7 dni w tygodniu do świadczeń opieki zdrowotnej udzielanych przez lekarza, o którym mowa w ust. 1 pkt 1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TimesNewRoman"/>
              </a:rPr>
              <a:t>2) porady lekarskie w zależności od potrzeb, nie rzadziej niż 2 w miesiącu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TimesNewRoman"/>
              </a:rPr>
              <a:t>3) całodobowy dostęp przez 7 dni w tygodniu do świadczeń opieki zdrowotnej udzielanych przez pielęgniarkę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TimesNewRoman"/>
              </a:rPr>
              <a:t>4) wizyty pielęgniarskie w zależności od potrzeb, nie rzadziej niż 2 w tygodniu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TimesNewRoman"/>
              </a:rPr>
              <a:t>5) pozostały personel − porady lub wizyty ustalane indywidualnie przez lekarza, o którym mowa w ust. 1 pkt 1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TimesNewRoman"/>
              </a:rPr>
              <a:t>6) świadczeniobiorcy dorosłemu mogą być udzielane świadczenia gwarantowane w ramach opieki paliatywnej dla dzieci, jeżeli: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TimesNewRoman"/>
              </a:rPr>
              <a:t>a) jednostka chorobowa ma charakter wrodzony lub choroba ograniczająca życie została zdiagnozowana przed ukończeniem przez świadczeniobiorcę 18. roku życia, a świadczeniobiorca korzystał ze świadczeń gwarantowanych realizowanych w hospicjum domowym dla dzieci do ukończenia 18. roku życia lub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TimesNewRoman"/>
              </a:rPr>
              <a:t>b) nie istnieje możliwość odpowiedniego udzielania świadczeń gwarantowanych przez hospicja domowe dla dorosłych ze względu na rzadki charakter choroby lub miejsce zamieszkania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0" name="Symbol zastępczy numeru slajdu 2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B32C-606E-4127-BB52-B16E3E82AE8B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944280" y="1628280"/>
            <a:ext cx="80262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06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6200" algn="just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Rozporządzenie Ministra Zdrowia z dnia 29 października 2013 r. w sprawie świadczeń gwarantowanych z zakresu opieki paliatywnej i hospicyjnej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6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(Dz.U. 2013 poz. 1347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6200" algn="just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Rozporządzenie Ministra Zdrowia z dnia 31 stycznia </a:t>
            </a:r>
            <a:br>
              <a:rPr sz="2400"/>
            </a:b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2017 r. zmieniające rozporządzenie w sprawie świadczeń gwarantowanych z zakresu opieki paliatywnej </a:t>
            </a:r>
            <a:br>
              <a:rPr sz="2400"/>
            </a:b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i hospicyjnej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6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4a8a4"/>
                </a:solidFill>
                <a:latin typeface="Candara"/>
              </a:rPr>
              <a:t> </a:t>
            </a: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(Dz.U. 2017 poz. 236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3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4A18-E9B5-495F-B9F4-2D2B844FA56B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44160" y="1599840"/>
            <a:ext cx="921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b87d6"/>
                </a:solidFill>
                <a:latin typeface="Candara"/>
              </a:rPr>
              <a:t>Świadczenia w hospicjum domowym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b87d6"/>
                </a:solidFill>
                <a:latin typeface="Candara"/>
              </a:rPr>
              <a:t>dla dzieci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3" name="Symbol zastępczy numeru slajdu 2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4C99-3313-4E9E-9581-770F3AC9BA33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775800" y="333000"/>
            <a:ext cx="8255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25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3773-8C51-4203-8CC0-F1B9203F8F07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6" name=""/>
          <p:cNvGraphicFramePr/>
          <p:nvPr/>
        </p:nvGraphicFramePr>
        <p:xfrm>
          <a:off x="704880" y="2133720"/>
          <a:ext cx="8497800" cy="3608280"/>
        </p:xfrm>
        <a:graphic>
          <a:graphicData uri="http://schemas.openxmlformats.org/drawingml/2006/table">
            <a:tbl>
              <a:tblPr/>
              <a:tblGrid>
                <a:gridCol w="3311640"/>
                <a:gridCol w="5186160"/>
              </a:tblGrid>
              <a:tr h="84924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0000"/>
                          </a:solidFill>
                          <a:latin typeface="Candara"/>
                        </a:rPr>
                        <a:t>person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0000"/>
                          </a:solidFill>
                          <a:latin typeface="Candara"/>
                        </a:rPr>
                        <a:t>hospicjum domowe dla dziec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80496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lekar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równoważnik 1 etatu przeliczenioweg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na 20 świadczeniobiorc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pielęgniar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równoważnik 1 etatu przeliczenioweg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na 12 świadczeniobiorc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psycholog, psycholog kliniczny, psychoonko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równoważnik 1/2 etatu przeliczenioweg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na 12 świadczeniobiorc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fizjoterapeu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równoważnik 1/4 etatu przeliczenioweg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na 15 świadczeniobiorc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344160" y="1599840"/>
            <a:ext cx="921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b87d6"/>
                </a:solidFill>
                <a:latin typeface="Candara"/>
              </a:rPr>
              <a:t>Perinatalna opieka paliatywna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9" name="Symbol zastępczy numeru slajdu 2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8B08-2175-4D3A-80A5-2738926155E1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775800" y="333000"/>
            <a:ext cx="8255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31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5269-6BB5-45C0-AEF8-5B35AC79CA57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2" name=""/>
          <p:cNvGraphicFramePr/>
          <p:nvPr/>
        </p:nvGraphicFramePr>
        <p:xfrm>
          <a:off x="704880" y="2133720"/>
          <a:ext cx="8497800" cy="2224080"/>
        </p:xfrm>
        <a:graphic>
          <a:graphicData uri="http://schemas.openxmlformats.org/drawingml/2006/table">
            <a:tbl>
              <a:tblPr/>
              <a:tblGrid>
                <a:gridCol w="3311640"/>
                <a:gridCol w="5186160"/>
              </a:tblGrid>
              <a:tr h="85068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0000"/>
                          </a:solidFill>
                          <a:latin typeface="Candara"/>
                        </a:rPr>
                        <a:t>person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0000"/>
                          </a:solidFill>
                          <a:latin typeface="Candara"/>
                        </a:rPr>
                        <a:t>perinatalna opieka paliatyw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80496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lekar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nie wskazano paryte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(kryteria oceny ofert co najmniej ¼ etat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Psycholog, psycholog kliniczny, psychoonko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nie wskazano paryte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(kryteria oceny ofert co najmniej ¼ etat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344160" y="1599840"/>
            <a:ext cx="921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09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ndara"/>
              </a:rPr>
              <a:t>Inne warunki: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09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ndara"/>
              </a:rPr>
              <a:t>1) pomieszczenie przystosowane do udzielania konsultacji lekarskich i psychologicznych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09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ndara"/>
              </a:rPr>
              <a:t>2) współpraca ze świadczeniodawcą udzielającym świadczeń z zakresu położnictwa i ginekologii − trzeci poziom referencyjny oraz neonatologii,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andara"/>
              </a:rPr>
              <a:t>w warunkach leczenia szpitalnego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09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ndara"/>
              </a:rPr>
              <a:t>3) współpraca z położną podstawowej opieki zdrowotnej oraz lekarzem specjalistą w dziedzinie położnictwa i ginekologii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09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ndara"/>
              </a:rPr>
              <a:t>4) świadczeniodawca realizujący świadczenie gwarantowane w warunkach perinatalnej opieki paliatywnej posiada co najmniej trzyletnie doświadczenie w pracy w pediatrycznej opiece paliatywnej w zakresie hospicjum domowego dla dzieci lub hospicjum stacjonarnego lub współpracuje z ośrodkiem mającym doświadczenie w pracy w pediatrycznej opiece paliatywnej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09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ndara"/>
              </a:rPr>
              <a:t>5) świadczenie gwarantowane w warunkach perinatalnej opieki paliatywnej jest realizowane do 28. dnia po porodzie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5" name="Symbol zastępczy numeru slajdu 2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C676-8269-43AB-AB93-02A915C0FB42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44160" y="1599840"/>
            <a:ext cx="921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b87d6"/>
                </a:solidFill>
                <a:latin typeface="Candara"/>
              </a:rPr>
              <a:t>Poradnia medycyny paliatywnej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8" name="Symbol zastępczy numeru slajdu 2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758D-B90E-4448-BDF7-8717AE3EE815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775800" y="333000"/>
            <a:ext cx="8255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40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1B87-7A42-4CED-8883-8EA6B01C30D5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1" name=""/>
          <p:cNvGraphicFramePr/>
          <p:nvPr/>
        </p:nvGraphicFramePr>
        <p:xfrm>
          <a:off x="704880" y="2133720"/>
          <a:ext cx="8497800" cy="2778120"/>
        </p:xfrm>
        <a:graphic>
          <a:graphicData uri="http://schemas.openxmlformats.org/drawingml/2006/table">
            <a:tbl>
              <a:tblPr/>
              <a:tblGrid>
                <a:gridCol w="3311640"/>
                <a:gridCol w="5186160"/>
              </a:tblGrid>
              <a:tr h="86004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0000"/>
                          </a:solidFill>
                          <a:latin typeface="Candara"/>
                        </a:rPr>
                        <a:t>person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0000"/>
                          </a:solidFill>
                          <a:latin typeface="Candara"/>
                        </a:rPr>
                        <a:t>poradnia medycyny paliatywne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80064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lekar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nie wskazano paryte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pielęgniar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nie wskazano paryte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psycholog, psycholog kliniczny, psychoonko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nie wskazano paryte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rganizacja pracy poradni: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Poradnia jest czynna co najmniej 3 dni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 tygodniu po 2,5 godziny dziennie,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 tym 1 dzień w godzinach popołudniowych − do godziny 18:00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560160" y="1844280"/>
            <a:ext cx="8713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nne warunki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1) świadczenia gwarantowane w warunkach ambulatoryjnych są przeznaczone dla świadczeniobiorców, których stan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gólny jest stabilny oraz którzy mogą przybyć do poradni medycyny paliatywnej sami lub którzy ze względu na ograniczoną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ożliwość poruszania się wymagają porad lub wizyt w domu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) świadczenia gwarantowane w warunkach ambulatoryjnych obejmują nie więcej niż 2 porady lub wizyty w tygodniu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domu świadczeniobiorcy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0000"/>
                </a:solidFill>
                <a:latin typeface="Times New Roman"/>
              </a:rPr>
              <a:t>WAŻNE!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862aa"/>
                </a:solidFill>
                <a:latin typeface="Times New Roman"/>
              </a:rPr>
              <a:t>PROPORCJONALNE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2862aa"/>
                </a:solidFill>
                <a:latin typeface="Times New Roman"/>
              </a:rPr>
              <a:t>WYLICZANIE CZASU PRACY DANEGO PERSONELU WZGLĘDEM LICZBY PUNKTÓW WSKAZANEJ W OFERCIE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2862aa"/>
                </a:solidFill>
                <a:latin typeface="Times New Roman"/>
              </a:rPr>
              <a:t>(np. hospicjum domowe 1 punkt = 1 osobodzień)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944280" y="1628280"/>
            <a:ext cx="80262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325440" algn="just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Obwieszczenie Ministra Zdrowia w sprawie ogłoszenia jednolitego tekstu rozporządzenia Ministra Zdrowia </a:t>
            </a:r>
            <a:br>
              <a:rPr sz="2400"/>
            </a:b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w sprawie świadczeń gwarantowanych z zakresu opieki paliatywnej i hospicyjnej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34160" indent="-325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(Dz.U. z 2018 r. poz. 742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34160" indent="-325440" algn="just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Rozporządzenie Ministra Zdrowia z dnia 12 czerwca 2018 r. zmieniające rozporządzenie w sprawie świadczeń gwarantowanych z zakresu opieki paliatywnej </a:t>
            </a:r>
            <a:br>
              <a:rPr sz="2400"/>
            </a:b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i hospicyjnej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34160" indent="-325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(Dz.U. 2018 poz. 1185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34160" indent="-325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6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77DE-6B0E-433F-8584-433BA2DD10C0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128520" y="1484280"/>
            <a:ext cx="95774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10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0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Candara"/>
              </a:rPr>
              <a:t>UWAGA!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0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Candara"/>
              </a:rPr>
              <a:t>W przypadku wykazania w ofercie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0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lekarza legitymującego się dokumentem ukończenia kursu zgodnego </a:t>
            </a:r>
            <a:br>
              <a:rPr sz="2200"/>
            </a:b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z programem specjalizacji w dziedzinie medycyny paliatywnej, dotyczącego problematyki bólu, objawów somatycznych i psychicznych, organizowanego przez Centrum Medyczne Kształcenia Podyplomowego lub wyższą uczelnię medyczną posiadającą uprawnienia do kształcenia przeddyplomowego lub podyplomowego lekarzy lub jednostkę posiadającą akredytację do prowadzenia specjalizacji w dziedzinie medycyny paliatywnej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10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0000"/>
                </a:solidFill>
                <a:latin typeface="Candara"/>
              </a:rPr>
              <a:t>Należy wskazać  kompetencje o kodzie: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10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0000"/>
                </a:solidFill>
                <a:latin typeface="Candara"/>
              </a:rPr>
              <a:t>0312</a:t>
            </a:r>
            <a:r>
              <a:rPr b="0" lang="pl-PL" sz="2200" spc="-1" strike="noStrike">
                <a:solidFill>
                  <a:srgbClr val="ff0000"/>
                </a:solidFill>
                <a:latin typeface="Candara"/>
              </a:rPr>
              <a:t> – kurs zgodny z programem specjalizacji w dziedzinie medycyny </a:t>
            </a:r>
            <a:br>
              <a:rPr sz="2200"/>
            </a:br>
            <a:r>
              <a:rPr b="0" lang="pl-PL" sz="2200" spc="-1" strike="noStrike">
                <a:solidFill>
                  <a:srgbClr val="ff0000"/>
                </a:solidFill>
                <a:latin typeface="Candara"/>
              </a:rPr>
              <a:t>             paliatywnej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0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7842-FDE8-43F0-8E1A-C4FED425B758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272880" y="1341000"/>
            <a:ext cx="936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08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87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087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0000"/>
                </a:solidFill>
                <a:latin typeface="Candara"/>
              </a:rPr>
              <a:t>UWAGA!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087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0000"/>
                </a:solidFill>
                <a:latin typeface="Candara"/>
              </a:rPr>
              <a:t>ewidencjonowanie kompetencji pielęgniarskich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08720">
              <a:lnSpc>
                <a:spcPct val="80000"/>
              </a:lnSpc>
              <a:spcBef>
                <a:spcPts val="550"/>
              </a:spcBef>
              <a:buClr>
                <a:srgbClr val="a9a57c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0000"/>
                </a:solidFill>
                <a:latin typeface="Candara"/>
              </a:rPr>
              <a:t>kurs kwalifikacyjny w dziedzinie pielęgniarstwa opieki paliatywnej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087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0000"/>
                </a:solidFill>
                <a:latin typeface="Candara"/>
              </a:rPr>
              <a:t>(kompetencja: 0010 – pielęgniarstwo opieki paliatywnej – kurs kwalifikacyjny)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08720">
              <a:lnSpc>
                <a:spcPct val="80000"/>
              </a:lnSpc>
              <a:spcBef>
                <a:spcPts val="550"/>
              </a:spcBef>
              <a:buClr>
                <a:srgbClr val="a9a57c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0000"/>
                </a:solidFill>
                <a:latin typeface="Candara"/>
              </a:rPr>
              <a:t>kurs specjalistyczny z zakresu podstaw opieki paliatywnej albo jest </a:t>
            </a:r>
            <a:br>
              <a:rPr sz="2200"/>
            </a:br>
            <a:r>
              <a:rPr b="1" lang="pl-PL" sz="2200" spc="-1" strike="noStrike">
                <a:solidFill>
                  <a:srgbClr val="ff0000"/>
                </a:solidFill>
                <a:latin typeface="Candara"/>
              </a:rPr>
              <a:t>w trakcie tego kursu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087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0000"/>
                </a:solidFill>
                <a:latin typeface="Candara"/>
              </a:rPr>
              <a:t>(kompetencja: 0311 – pielęgniarstwo opieki paliatywnej – kurs specjalistyczny)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08720">
              <a:lnSpc>
                <a:spcPct val="80000"/>
              </a:lnSpc>
              <a:spcBef>
                <a:spcPts val="550"/>
              </a:spcBef>
              <a:buClr>
                <a:srgbClr val="a9a57c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0000"/>
                </a:solidFill>
                <a:latin typeface="Candara"/>
              </a:rPr>
              <a:t>w przypadku wykazywania w ofercie pielęgniarek, będących w trakcie uzyskiwania wymaganych kwalifikacji  należy wskazać kompetencję </a:t>
            </a:r>
            <a:br>
              <a:rPr sz="2200"/>
            </a:br>
            <a:r>
              <a:rPr b="1" lang="pl-PL" sz="2200" spc="-1" strike="noStrike">
                <a:solidFill>
                  <a:srgbClr val="ff0000"/>
                </a:solidFill>
                <a:latin typeface="Candara"/>
              </a:rPr>
              <a:t>o kodzie: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087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0000"/>
                </a:solidFill>
                <a:latin typeface="Candara"/>
              </a:rPr>
              <a:t>0303 - pielęgniarka w trakcie szkolenia specjalizacyjnego/kursu kwalifikacyjnego/kursu specjalistycznego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0872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3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B9B7-C54B-47A2-AA61-ED32A2D561F2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55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6D0B-7995-4103-8A79-B589BA37D65D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6" name=""/>
          <p:cNvGraphicFramePr/>
          <p:nvPr/>
        </p:nvGraphicFramePr>
        <p:xfrm>
          <a:off x="560520" y="1700280"/>
          <a:ext cx="8856360" cy="4465440"/>
        </p:xfrm>
        <a:graphic>
          <a:graphicData uri="http://schemas.openxmlformats.org/drawingml/2006/table">
            <a:tbl>
              <a:tblPr/>
              <a:tblGrid>
                <a:gridCol w="1935000"/>
                <a:gridCol w="1360440"/>
                <a:gridCol w="1733760"/>
                <a:gridCol w="1734840"/>
                <a:gridCol w="2092320"/>
              </a:tblGrid>
              <a:tr h="66348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ymagana dostępność komórek organizacyjnyc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adnia medycyny paliatywne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picjum domow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picjum domowe dla dzieci i młodzież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inatalna opieka paliatyw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dział medycyny paliatywnej/hospicjum stacjona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765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wg harmonogramu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br>
                        <a:rPr sz="1100"/>
                      </a:b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 najmniej 3 dni </a:t>
                      </a:r>
                      <a:br>
                        <a:rPr sz="1100"/>
                      </a:b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godniu po 2,5 godzinny dziennie, </a:t>
                      </a:r>
                      <a:br>
                        <a:rPr sz="1100"/>
                      </a:b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m 1 dzień </a:t>
                      </a:r>
                      <a:br>
                        <a:rPr sz="1100"/>
                      </a:b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godzinach popołudniowych </a:t>
                      </a:r>
                      <a:br>
                        <a:rPr sz="1100"/>
                      </a:b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do godziny 18: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/godzin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dni </a:t>
                      </a:r>
                      <a:br>
                        <a:rPr sz="1600"/>
                      </a:b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godni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/godzin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dni </a:t>
                      </a:r>
                      <a:br>
                        <a:rPr sz="1600"/>
                      </a:b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godni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talony harmonogram pracy komórki (miejsca udzielanie świadczeń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kryteria oceny ofert dostępność personelu co najmniej ¼ etatu tj. 10 godzin tygodniow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/godzin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dni </a:t>
                      </a:r>
                      <a:br>
                        <a:rPr sz="1600"/>
                      </a:b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godni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58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9B04-005D-4C39-A3C6-401894DE5F3C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9" name=""/>
          <p:cNvGraphicFramePr/>
          <p:nvPr/>
        </p:nvGraphicFramePr>
        <p:xfrm>
          <a:off x="415800" y="1413000"/>
          <a:ext cx="9001080" cy="4564080"/>
        </p:xfrm>
        <a:graphic>
          <a:graphicData uri="http://schemas.openxmlformats.org/drawingml/2006/table">
            <a:tbl>
              <a:tblPr/>
              <a:tblGrid>
                <a:gridCol w="1595520"/>
                <a:gridCol w="1809720"/>
                <a:gridCol w="1792440"/>
                <a:gridCol w="1793880"/>
                <a:gridCol w="2009520"/>
              </a:tblGrid>
              <a:tr h="568080">
                <a:tc gridSpan="5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ersonel: harmonogramy pra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3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adnia medycyny paliatywne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picjum domow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picjum domowe dla dzieci i młodzież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inatalna opieka paliatyw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dział medycyny paliatywnej/hospicjum stacjona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692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rmonogram godzinowy </a:t>
                      </a:r>
                      <a:br>
                        <a:rPr sz="1600"/>
                      </a:b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rozbiciu </a:t>
                      </a:r>
                      <a:br>
                        <a:rPr sz="1600"/>
                      </a:b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 dni tygod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godny </a:t>
                      </a:r>
                      <a:br>
                        <a:rPr sz="1600"/>
                      </a:b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 harmonogramem pracy porad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czba godzin pracy </a:t>
                      </a:r>
                      <a:br>
                        <a:rPr sz="1600"/>
                      </a:b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godni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czba godzin pracy </a:t>
                      </a:r>
                      <a:br>
                        <a:rPr sz="1600"/>
                      </a:b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godni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karze –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armonogram godzinowy w rozbiciu na dni tygod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kryteria oceny ofert dostępność personelu co najmniej ¼ etatu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ycholodzy -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liczba godzin pracy </a:t>
                      </a:r>
                      <a:br>
                        <a:rPr sz="1600"/>
                      </a:b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godni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czba godzin pracy </a:t>
                      </a:r>
                      <a:br>
                        <a:rPr sz="1600"/>
                      </a:b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godni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 txBox="1"/>
          <p:nvPr/>
        </p:nvSpPr>
        <p:spPr>
          <a:xfrm>
            <a:off x="415800" y="2205000"/>
            <a:ext cx="907416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Candara"/>
              </a:rPr>
              <a:t>ZARZĄDZENIA  PREZESA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49"/>
              </a:spcBef>
              <a:buClr>
                <a:srgbClr val="31b6f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4a8a4"/>
                </a:solidFill>
                <a:latin typeface="Candara"/>
              </a:rPr>
              <a:t>przedmiot postępowania w sprawie zawarcia umowy </a:t>
            </a:r>
            <a:br>
              <a:rPr sz="2600"/>
            </a:br>
            <a:r>
              <a:rPr b="1" lang="pl-PL" sz="2600" spc="-1" strike="noStrike">
                <a:solidFill>
                  <a:srgbClr val="04a8a4"/>
                </a:solidFill>
                <a:latin typeface="Candara"/>
              </a:rPr>
              <a:t>o udzielanie świadczeń opieki zdrowotnej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49"/>
              </a:spcBef>
              <a:buClr>
                <a:srgbClr val="31b6f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4a8a4"/>
                </a:solidFill>
                <a:latin typeface="Candara"/>
              </a:rPr>
              <a:t>szczegółowe warunki umowy o udzielanie świadczeń opieki zdrowotnej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61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97CC-E1AB-414B-B8EB-6A5643D954D5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88520" y="333000"/>
            <a:ext cx="8915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272520" y="2349000"/>
            <a:ext cx="943308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Candara"/>
              </a:rPr>
              <a:t>Od 1 września 2018 r. obowiązuje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2862aa"/>
                </a:solidFill>
                <a:latin typeface="Candara"/>
              </a:rPr>
              <a:t>Zarządzenie Nr 74/2018/DSOZ Prezesa  Narodowego Funduszu Zdrowia z dnia 31 lipca 2018 r. </a:t>
            </a:r>
            <a:br>
              <a:rPr sz="2600"/>
            </a:br>
            <a:r>
              <a:rPr b="1" lang="pl-PL" sz="2600" spc="-1" strike="noStrike">
                <a:solidFill>
                  <a:srgbClr val="2862aa"/>
                </a:solidFill>
                <a:latin typeface="Candara"/>
              </a:rPr>
              <a:t>w sprawie określenia warunków zawierania i realizacji umów </a:t>
            </a:r>
            <a:br>
              <a:rPr sz="2600"/>
            </a:br>
            <a:r>
              <a:rPr b="1" lang="pl-PL" sz="2600" spc="-1" strike="noStrike">
                <a:solidFill>
                  <a:srgbClr val="2862aa"/>
                </a:solidFill>
                <a:latin typeface="Candara"/>
              </a:rPr>
              <a:t>w rodzaju opieka paliatywna i hospicyjna,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64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CB01-8B40-4DF2-8C77-52B1C52C9FFF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344160" y="2674440"/>
            <a:ext cx="92883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Załącznik nr 1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Katalog  świadczeń w opiece paliatywnej i hospicyjnej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67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49B5-E4C3-429A-AB1F-C7D1BE9A1D45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69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422E-EE92-424F-88AD-FE64823BA71C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0" name=""/>
          <p:cNvGraphicFramePr/>
          <p:nvPr/>
        </p:nvGraphicFramePr>
        <p:xfrm>
          <a:off x="344520" y="1413000"/>
          <a:ext cx="9361440" cy="5383080"/>
        </p:xfrm>
        <a:graphic>
          <a:graphicData uri="http://schemas.openxmlformats.org/drawingml/2006/table">
            <a:tbl>
              <a:tblPr/>
              <a:tblGrid>
                <a:gridCol w="504720"/>
                <a:gridCol w="2190960"/>
                <a:gridCol w="1068120"/>
                <a:gridCol w="981360"/>
                <a:gridCol w="1498320"/>
                <a:gridCol w="1206720"/>
                <a:gridCol w="1204920"/>
                <a:gridCol w="706320"/>
              </a:tblGrid>
              <a:tr h="277560">
                <a:tc gridSpan="6"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atalog  świadczeń w opiece paliatywnej i hospicyjne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L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Nazwa zakresu świadcze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Kod zakresu świadczeń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Jednostka rozliczeniowa zakresu świadczeń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Nazwa produktu rozliczeniowe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Kod produktu rozliczeniowe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waga punktowa</a:t>
                      </a:r>
                      <a:br>
                        <a:rPr sz="1000"/>
                      </a:br>
                      <a:r>
                        <a:rPr b="1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 produktu rozliczeniowe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Taryfa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rowSpan="3"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świadczenia w oddziale medycyny paliatywnej / hospicjum stacjonarny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15.4180.021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punk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osobodzień w oddziale medycyny paliatywnej / hospicjum stacjonarny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5.15.00.00001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6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osobodzień w oddziale medycyny paliatywnej / hospicjum stacjonarnym dla pacjentów żywionych dojelitow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5.15.00.00001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7,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osobodzień w oddziale medycyny paliatywnej / hospicjum stacjonarnym dla pacjentów żywionych pozajelitow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5.15.00.0000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9,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świadczenia w hospicjum domowy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15.2180.027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punk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osobodzień w hospicjum domowy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5.15.00.00001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1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świadczenia w hospicjum domowym dla dziec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15.2181.027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punk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osobodzień w hospicjum domowym dla dziec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5.15.00.00001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1,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porada w poradni medycyny paliatywne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15.1180.007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punk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porada w poradni medycyny paliatywne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5.15.00.00001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0,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perinatalna opieka paliatywna *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15.2181.028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punk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Porady i konsultacje lekarskie oraz psychologiczne wraz z koordynację opiek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5.15.00.00001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24,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920">
                <a:tc gridSpan="8">
                  <a:txBody>
                    <a:bodyPr lIns="3960" rIns="3960" tIns="39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* uwzględniona na podstawie załącznika do Obwieszczenia Prezesa Agencji Oceny Technologii Medycznej i Taryfikacji z dnia 29 czerwca 2016 r. w  sprawie taryf świadczeń gwarantowanych w rodzaju opieka paliatywna i hospicyjna. </a:t>
                      </a:r>
                      <a:br>
                        <a:rPr sz="1100"/>
                      </a:b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Taryfy zostały ustalone w odniesieniu do świadczenia bazowego, tj. osobodzień w hospicjum domowym, któremu przyporządkowano wartość równą 1 punkt.</a:t>
                      </a:r>
                      <a:br>
                        <a:rPr sz="1100"/>
                      </a:b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** świadczenie rozliczane za kompleksową opiekę, liczba porad i konsultacji dostosowana do potrzeb dziecka i rodzicó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 txBox="1"/>
          <p:nvPr/>
        </p:nvSpPr>
        <p:spPr>
          <a:xfrm>
            <a:off x="200160" y="2674440"/>
            <a:ext cx="943272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b87d6"/>
                </a:solidFill>
                <a:latin typeface="Candara"/>
              </a:rPr>
              <a:t>Wzory oświadczeń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72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9C08-DF3D-408E-8B35-38C8DC94B10C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ZARZĄDZENIE WEWNĘTRZNE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DYREKTORA ŚLĄSKIEGO ODDZIAŁU WOJEWÓDZKIEGO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NARODOWEGO FUNDUSZU ZDROWIA W KATOWICACH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Nr 179/2015  z dnia 5 listopada 2015  r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w sprawie wprowadzenia zasad weryfikacji oferentów uczestniczących w postępowaniach poprzedzających zawarcie umów o udzielanie świadczeń opieki zdrowotnej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992160" y="1483920"/>
            <a:ext cx="80265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105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Wykaz gwarantowanych świadczeń opieki zdrowotnej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05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5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Świadczenia gwarantowane są realizowane </a:t>
            </a:r>
            <a:br>
              <a:rPr sz="2400"/>
            </a:b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 warunkach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5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1) stacjonarnych;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5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2) domowych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5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3) ambulatoryjnych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5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4) perinatalnej opieki paliatywnej – w ośrodku diagnostyki prenatalnej, w ośrodku kardiologii prenatalnej, w zakładzie genetyki, w poradni medycyny paliatywnej, w hospicjum domowym dla dzieci lub w hospicjum stacjonarnym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5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5120">
              <a:spcBef>
                <a:spcPts val="601"/>
              </a:spcBef>
              <a:buClr>
                <a:srgbClr val="31b6fd"/>
              </a:buClr>
              <a:buFont typeface="Candar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5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9" name="Symbol zastępczy numeru slajdu 4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D788-9A9F-4ED1-BFFF-8B2A1FBF7676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7CF0-3FE8-40DD-9337-E9F9A97E6045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6" name="Picture 2" descr=""/>
          <p:cNvPicPr/>
          <p:nvPr/>
        </p:nvPicPr>
        <p:blipFill>
          <a:blip r:embed="rId1"/>
          <a:stretch/>
        </p:blipFill>
        <p:spPr>
          <a:xfrm>
            <a:off x="2079720" y="333360"/>
            <a:ext cx="5746680" cy="61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314B-FCBB-46F4-AE26-217622E56F49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8" name="Picture 2" descr=""/>
          <p:cNvPicPr/>
          <p:nvPr/>
        </p:nvPicPr>
        <p:blipFill>
          <a:blip r:embed="rId1"/>
          <a:stretch/>
        </p:blipFill>
        <p:spPr>
          <a:xfrm>
            <a:off x="2079720" y="115920"/>
            <a:ext cx="574668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BDDD-03A3-4CD0-9FCC-2DBA8177FC88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0" name="Picture 2" descr=""/>
          <p:cNvPicPr/>
          <p:nvPr/>
        </p:nvPicPr>
        <p:blipFill>
          <a:blip r:embed="rId1"/>
          <a:stretch/>
        </p:blipFill>
        <p:spPr>
          <a:xfrm>
            <a:off x="2079720" y="403200"/>
            <a:ext cx="5746680" cy="60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11E9-AB0F-4485-9D3A-2446F8188AEA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2" name="Picture 2" descr=""/>
          <p:cNvPicPr/>
          <p:nvPr/>
        </p:nvPicPr>
        <p:blipFill>
          <a:blip r:embed="rId1"/>
          <a:stretch/>
        </p:blipFill>
        <p:spPr>
          <a:xfrm>
            <a:off x="2079720" y="442800"/>
            <a:ext cx="574668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6415-93BE-408B-9C9B-A0FA6A6B9D14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4" name="Picture 2" descr=""/>
          <p:cNvPicPr/>
          <p:nvPr/>
        </p:nvPicPr>
        <p:blipFill>
          <a:blip r:embed="rId1"/>
          <a:stretch/>
        </p:blipFill>
        <p:spPr>
          <a:xfrm>
            <a:off x="2079720" y="333360"/>
            <a:ext cx="57466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DE8A-FA1A-483B-B7E9-15FB4F61392B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6" name="Picture 2" descr=""/>
          <p:cNvPicPr/>
          <p:nvPr/>
        </p:nvPicPr>
        <p:blipFill>
          <a:blip r:embed="rId1"/>
          <a:stretch/>
        </p:blipFill>
        <p:spPr>
          <a:xfrm>
            <a:off x="2079720" y="1442880"/>
            <a:ext cx="5746680" cy="49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988" name="Picture 2" descr=""/>
          <p:cNvPicPr/>
          <p:nvPr/>
        </p:nvPicPr>
        <p:blipFill>
          <a:blip r:embed="rId1"/>
          <a:stretch/>
        </p:blipFill>
        <p:spPr>
          <a:xfrm>
            <a:off x="1449360" y="4019400"/>
            <a:ext cx="7016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Rectangle 2"/>
          <p:cNvSpPr/>
          <p:nvPr/>
        </p:nvSpPr>
        <p:spPr>
          <a:xfrm>
            <a:off x="631800" y="2060640"/>
            <a:ext cx="87850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2d83f4"/>
                </a:solidFill>
                <a:latin typeface="Candara"/>
                <a:ea typeface="Arial"/>
              </a:rPr>
              <a:t>Dziękuję za uwagę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2"/>
          <p:cNvSpPr/>
          <p:nvPr/>
        </p:nvSpPr>
        <p:spPr>
          <a:xfrm>
            <a:off x="5240160" y="436572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2"/>
          <p:cNvSpPr/>
          <p:nvPr/>
        </p:nvSpPr>
        <p:spPr>
          <a:xfrm>
            <a:off x="5168880" y="508464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 txBox="1"/>
          <p:nvPr/>
        </p:nvSpPr>
        <p:spPr>
          <a:xfrm>
            <a:off x="272880" y="2205000"/>
            <a:ext cx="93600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Wykaz gwarantowanych świadczeń opieki zdrowotnej – zakresy kontraktowane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Porada w poradni medycyny paliatywnej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15.1180.007.02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Świadczenia w hospicjum domowym</a:t>
            </a:r>
            <a:r>
              <a:rPr b="0" lang="pl-PL" sz="2400" spc="-1" strike="noStrike">
                <a:solidFill>
                  <a:srgbClr val="ff0000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ff0000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ff0000"/>
                </a:solidFill>
                <a:latin typeface="Candara"/>
              </a:rPr>
              <a:t>	</a:t>
            </a: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15.2180.027.02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Świadczenia w hospicjum domowym dla dzieci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15.2181.027.02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Świadczenia w oddziale medycyny paliatywnej/hospicjum stacjonarnym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15.4180.021.02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83d3fe"/>
                </a:solidFill>
                <a:latin typeface="Candara"/>
              </a:rPr>
              <a:t>5.     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Perinatalna opieka paliatywna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15.2181.028.02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272880" y="1052640"/>
            <a:ext cx="92887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73e87"/>
                </a:solidFill>
                <a:latin typeface="Candara"/>
              </a:rPr>
              <a:t>Świadczenia gwarantowane realizowane w warunkach stacjonarnych obejmują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73e87"/>
                </a:solidFill>
                <a:latin typeface="Candara"/>
              </a:rPr>
              <a:t>1) świadczenia opieki zdrowotnej udzielane przez lekarzy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73e87"/>
                </a:solidFill>
                <a:latin typeface="Candara"/>
              </a:rPr>
              <a:t>2) świadczenia opieki zdrowotnej udzielane przez pielęgniarki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73e87"/>
                </a:solidFill>
                <a:latin typeface="Candara"/>
              </a:rPr>
              <a:t>3) leczenie farmakologiczne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73e87"/>
                </a:solidFill>
                <a:latin typeface="Candara"/>
              </a:rPr>
              <a:t>4) leczenie bólu zgodnie z wytycznymi Światowej Organizacji Zdrowia (drabina analgetyczna)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73e87"/>
                </a:solidFill>
                <a:latin typeface="Candara"/>
              </a:rPr>
              <a:t>5) leczenie innych objawów somatycznych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73e87"/>
                </a:solidFill>
                <a:latin typeface="Candara"/>
              </a:rPr>
              <a:t>6) opiekę psychologiczną nad świadczeniobiorcą i jego rodziną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73e87"/>
                </a:solidFill>
                <a:latin typeface="Candara"/>
              </a:rPr>
              <a:t>7) rehabilitację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73e87"/>
                </a:solidFill>
                <a:latin typeface="Candara"/>
              </a:rPr>
              <a:t>8) zapobieganie powikłaniom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73e87"/>
                </a:solidFill>
                <a:latin typeface="Candara"/>
              </a:rPr>
              <a:t>9) badania zlecone przez lekarza zatrudnionego w hospicjum stacjonarnym lub oddziale medycyny paliatywnej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73e87"/>
                </a:solidFill>
                <a:latin typeface="Candara"/>
              </a:rPr>
              <a:t>10) zaopatrzenie w wyroby medyczne konieczne do wykonania świadczenia gwarantowanego w hospicjum stacjonarnym lub w oddziale medycyny paliatywnej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73e87"/>
                </a:solidFill>
                <a:latin typeface="Candara"/>
              </a:rPr>
              <a:t>11) opiekę wyręczającą obejmującą przyjmowanie świadczeniobiorców do hospicjum stacjonarnego lub oddziału medycyny paliatywnej na okres nie dłuższy niż 10 dni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4" name="Symbol zastępczy numeru slajdu 4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3204-A7E1-46B9-82F2-FBF6E9A71AFE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272880" y="1052280"/>
            <a:ext cx="9288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73e87"/>
                </a:solidFill>
                <a:latin typeface="Candara"/>
              </a:rPr>
              <a:t>Świadczenia gwarantowane realizowane w warunkach domowych obejmują 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1) świadczenia opieki zdrowotnej udzielane przez lekarzy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2) świadczenia opieki zdrowotnej udzielane przez pielęgniarki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4) leczenie bólu zgodnie z wytycznymi Światowej Organizacji Zdrowia (drabina analgetyczna)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5) leczenie innych objawów somatycznych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6) opiekę psychologiczną nad świadczeniobiorcą i jego rodziną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7) rehabilitację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8) zapobieganie powikłaniom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oraz </a:t>
            </a:r>
            <a:r>
              <a:rPr b="0" lang="pl-PL" sz="1800" spc="-1" strike="noStrike" u="sng">
                <a:solidFill>
                  <a:srgbClr val="073e87"/>
                </a:solidFill>
                <a:uFillTx/>
                <a:latin typeface="Candara"/>
              </a:rPr>
              <a:t>badania zlecone przez lekarza zatrudnionego w hospicjum domowym dla dorosłych </a:t>
            </a:r>
            <a:br>
              <a:rPr sz="1800"/>
            </a:b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lub dla dzieci do ukończenia 18 roku życia, </a:t>
            </a:r>
            <a:r>
              <a:rPr b="0" lang="pl-PL" sz="1800" spc="-1" strike="noStrike" u="sng">
                <a:solidFill>
                  <a:srgbClr val="073e87"/>
                </a:solidFill>
                <a:uFillTx/>
                <a:latin typeface="Candara"/>
              </a:rPr>
              <a:t>ordynację leków i bezpłatne wypożyczanie przez hospicja domowe wyrobów medycznych</a:t>
            </a: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 wymienionych w ust. 3 części II załącznika nr 2 </a:t>
            </a:r>
            <a:br>
              <a:rPr sz="1800"/>
            </a:b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do rozporządzenia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7" name="Symbol zastępczy numeru slajdu 4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E9F1-890F-420A-9655-18BAB37F442D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272880" y="1052280"/>
            <a:ext cx="9288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73e87"/>
                </a:solidFill>
                <a:latin typeface="Candara"/>
              </a:rPr>
              <a:t>Świadczenia gwarantowane realizowane w warunkach perinatalnej opieki paliatywnej obejmują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1) porady i konsultacje lekarskie w poradni medycyny paliatywnej, hospicjum domowym dla dzieci lub hospicjum stacjonarnym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2) porady psychologa w poradni medycyny paliatywnej, w hospicjum domowym dla dzieci lub w hospicjum stacjonarnym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3) koordynację opieki przez: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a) zapewnienie współpracy ze świadczeniodawcą udzielającym świadczeń z zakresu położnictwa i ginekologii lub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neonatologii, w warunkach leczenia szpitalnego lub porady specjalistycznej,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b) zapewnienie współpracy z hospicjum domowym dla dzieci lub z hospicjum stacjonarnym, pozwalającej na zachowanie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ciągłości opieki nad dzieckiem w przypadku zaistnienia możliwości wypisu z oddziału, na którym przebywa dziecko,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c) zapewnienie współpracy z ośrodkiem diagnostyki prenatalnej, ośrodkiem kardiologii prenatalnej lub zakładem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genetyki,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d) poinformowanie rodziców dziecka o możliwości pożegnania się ze zmarłym dzieckiem oraz o sposobie pochówku,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e) przekazanie informacji dotyczących postępowania w przypadku zgonu dziecka,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f) zapewnienie ciągłości leczenia stosownie do stanu zdrowia, po zakończeniu realizacji świadczenia gwarantowanego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w warunkach perinatalnej opieki paliatywnej, w tym w uzasadnionych przypadkach opiekę paliatywną po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urodzeniu dziecka oraz wsparcie w żałobie po śmierci dziecka przez udział w grupie wsparcia w żałobie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0" name="Symbol zastępczy numeru slajdu 4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CA1B-325B-4820-922D-804556EB6E35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1T20:16:07Z</dcterms:created>
  <dc:creator>katarzyna.wiktorzak</dc:creator>
  <dc:description/>
  <dc:language>en-US</dc:language>
  <cp:lastModifiedBy>Wojciech Mika</cp:lastModifiedBy>
  <cp:lastPrinted>2014-03-13T11:33:09Z</cp:lastPrinted>
  <dcterms:modified xsi:type="dcterms:W3CDTF">2019-03-15T13:18:58Z</dcterms:modified>
  <cp:revision>1250</cp:revision>
  <dc:subject/>
  <dc:title>Slajd 1</dc:title>
</cp:coreProperties>
</file>