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10.wmf" ContentType="image/x-wmf"/>
  <Override PartName="/ppt/media/image4.jpeg" ContentType="image/jpeg"/>
  <Override PartName="/ppt/media/image13.wmf" ContentType="image/x-wmf"/>
  <Override PartName="/ppt/media/image28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6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27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25.wmf" ContentType="image/x-wmf"/>
  <Override PartName="/ppt/media/image2.jpeg" ContentType="image/jpeg"/>
  <Override PartName="/ppt/media/image3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</p:sldIdLst>
  <p:sldSz cx="9907588" cy="6858000"/>
  <p:notesSz cx="66706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0" y="0"/>
            <a:ext cx="66708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dt" idx="46"/>
          </p:nvPr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sldImg"/>
          </p:nvPr>
        </p:nvSpPr>
        <p:spPr>
          <a:xfrm>
            <a:off x="663120" y="740880"/>
            <a:ext cx="534060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body"/>
          </p:nvPr>
        </p:nvSpPr>
        <p:spPr>
          <a:xfrm>
            <a:off x="666360" y="4684680"/>
            <a:ext cx="5335560" cy="444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ftr" idx="47"/>
          </p:nvPr>
        </p:nvSpPr>
        <p:spPr>
          <a:xfrm>
            <a:off x="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marL="216000"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omponent Regional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 type="sldNum" idx="48"/>
          </p:nvPr>
        </p:nvSpPr>
        <p:spPr>
          <a:xfrm>
            <a:off x="377820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F6056982-77B2-40FB-833A-90538F79997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663480" y="741240"/>
            <a:ext cx="5340600" cy="369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66360" y="4684680"/>
            <a:ext cx="5335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Symbol zastępczy numeru slajdu 3"/>
          <p:cNvSpPr/>
          <p:nvPr/>
        </p:nvSpPr>
        <p:spPr>
          <a:xfrm>
            <a:off x="377820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CFAA9F45-68E2-408B-94BC-AC51F59204A7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663480" y="741240"/>
            <a:ext cx="5340600" cy="369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66360" y="4684680"/>
            <a:ext cx="5335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Symbol zastępczy numeru slajdu 3"/>
          <p:cNvSpPr/>
          <p:nvPr/>
        </p:nvSpPr>
        <p:spPr>
          <a:xfrm>
            <a:off x="377820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4424B07C-036B-4021-87EB-FF327CDC03E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DA687-8DD2-43D0-BFFC-40D822D588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9995C-0D77-4BDD-9C05-F02E106A74E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01F1B-5067-4C80-B5E9-779C9950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C1977-CCED-481C-9561-6A03C4AC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9F653-B094-430C-81E4-96A1A682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09B27-8E7B-43DE-926C-B2F826B7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F4B23-B33E-499D-9660-60C8F3EC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4CB43-ECE7-476B-81CD-D6C82A44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DA56C-ECBD-43B0-A070-3C329816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F23B5-D9BF-4472-8169-D341044C9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75E1F-9113-443F-A03B-AAFA685DB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E5107-1B78-4D08-9364-D97A574D7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3CCB7-6A2B-4AE8-8359-D90FE4F0AD5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07256-50A6-4A15-BA4F-DEA81D47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E7E8D-734F-4036-8DE5-862C47CB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FF55B-9AAF-4961-B21A-51F3EF3F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8CAD1-2E80-4A65-80C2-1D659B2B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09442-62E3-4896-9A73-12D63E66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6F83B-5340-446B-ACBE-5D84A6C4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4C390-ABE9-4EA6-899C-B5AEE5D9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33972-76E7-400A-82A5-C477E76E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D9C3A-609C-49CC-B2DC-800E52E5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7FD0F-C270-43E0-A04D-C4FE84F5E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6A6D6-0794-447D-90F6-790BE8EA2BF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4202F-EA1E-424A-B0CE-F1EAA176A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04C11-D8EA-4F3D-983A-736AACFFA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5FF1B-81BD-4311-B438-C7B81C6B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AC770-3E1C-4037-BA2F-118D7C3C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C9083-C4C1-4587-8514-8C40DBDB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9EBE8-FFE7-4641-89F9-D027E42F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EB22C-5A34-4D38-8E8D-2FE3245A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CD298-C586-41D9-A4DE-1029FA7A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FA3B9-B58E-42CA-800D-C1E372CE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4D1E5-441E-4360-B015-2BF8C860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E14C4-9415-4A2B-B5C2-8B5DA5A5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7EC1D-0A55-4E72-AAE4-1D1F14108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1AB31-E2DF-4524-A799-D8C891B21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2378B3-C5C3-4D8B-8EE3-0E687EE6E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4B81A8-7ABC-4D35-B1D6-C643470C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A3A0E-84F1-406C-88F5-F75CFCFA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6A03D-9BDB-4DF8-BA57-392E6385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6BFA32-B8A4-42B3-93B1-D94F5A41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D3EC1B-CF82-4296-80E4-4807B6F5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247AFE-F318-4660-95CD-1A839C50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A1ECA2-2E38-4D54-8A65-45807A05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E54C80-82C0-44DA-B195-1E0FBF1C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ADC33-3978-4ED4-A854-C4FFE921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39AC62-883E-4DDF-B899-D8B237EB4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4F134B-D89E-46AF-BB4B-33E621ADC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378EF6-96F4-4317-A2AF-A9EDEECCD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FDA6A0-3780-4302-9F36-DCAD1A46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3D4F8F-B830-45B9-9B89-FEC694D4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FC839D-A78D-44F5-B7E8-6E9F0D0E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7D5813-025D-432F-98B1-8CF00A0C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36CC5B-CDAB-41CF-9954-30B91CFF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4A61F4-31B6-4A0C-81B3-3D1DBA97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286AC9-E995-4A7E-BA2D-96958502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C40096-92B9-4041-A64C-6187A305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CFCC1C-AD65-48F4-A724-20652AF8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C03836-BC9E-431E-A48D-48C10D293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6CB295-882A-48A8-9646-9C6588F53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52B5B-EC06-4836-A17A-768811713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01879-6A67-4F39-AAB9-B15023CB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73A009-0F09-4C3C-8D4A-7BAC95FD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91863D-FDBB-4BDB-B8BF-B311F70F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0FE122-AEE2-48CE-B860-0BB5A372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3D6894-B982-416D-8CCD-FB235A6E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2A5F5C-6E2C-4B0E-8A4B-6B59E7F5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FEED8-B400-41CD-91DD-2493645B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EAB0C-E5E8-4982-889C-CC8FEB7F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5C0FD-1E35-44D5-8A79-41DA01D1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6190F6-277A-4B75-8CB5-EF0182ACC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9F566-7707-478B-BE53-B6D772199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E2EAEB-EE7B-461C-B587-653C356C7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65B44A-36B7-4D2A-A78B-387416D2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19AB78-3423-4EA8-BF0B-9B4E632B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9578CC-47BE-4C17-9725-30D08A88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7459A2-FAE5-4774-85A7-7A43EECE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D02024-A270-4DA1-9B10-945DE946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C806A2-E74C-4FB4-9E5E-9D5F8234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B52F4D-A3E0-4357-90C7-4FF06727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59B52D-FE98-49C6-BE26-721DFB92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9E068E-7AA6-429A-9F8E-3CFB3A76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C07848-DD51-4D99-8246-55B72E743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A6B58F-53B7-4B03-9F14-47F8E87D8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5A2859-E37D-4C78-BD5F-0162CFDD5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02AA70-496F-4557-AE1F-4F9B235C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134829-9859-4AD7-A423-9DC842BE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B31F77-46D8-4F6E-ABCE-11A4C1A2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7CED84-3729-4E55-B978-1E695C8E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6CE448-B5F4-496E-BC7C-B8E42690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CB569E-BEB2-420F-823B-0A0D3EFE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73A901-EE3A-4ABA-8D13-85CAFEDD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393ABB-45B6-48C7-9493-4D776E06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5658AC-CC3B-42DE-B238-1D071B27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59FD06-86C2-4B8D-9415-1F8EA383B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6F249C-FD3E-44D9-B9A7-2336B428B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E29D18-6B2F-4F1F-B345-CD97731F3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F56D84-B3E1-40BB-8685-1697B8DA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EEFD8C-EF1C-4307-B85F-B42F7AFA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4542EE-BA87-4382-84B1-6682A50F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6E235C-6BCA-41AB-87B3-662567C7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8BAEBA-CB2C-451C-8097-60B03088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997920-35CF-4F5B-87BE-98A2B5F3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6DDE7-D5E8-4CC5-B1AE-11FECA0F55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D9BCFD-CCB3-4798-801C-9F1D89BB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EF40B9-8DF7-4A80-B0B1-E32346EC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00DBC5-B3CC-4860-8B7E-70F729C2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31B113-CB77-4643-A79D-4A6B9DD64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062397-F7DC-416E-B321-67767B872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43A094-E9AA-4AB1-8B3A-3B745D13D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7509D5-97AC-4775-8B1E-5E25CD44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ED1EFF-75BC-47DB-84EE-04EA6E8D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076B7C-7D34-462D-B0D8-A52DB75F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57BED1-986F-49E2-8754-9D4BFDC3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3FEACB-226D-4B2E-A34A-1C201C9A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8D61BB-1691-44AE-B90D-36A13CE8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22BDF0-DDD4-4CA6-8457-E6FF8010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582B68-B653-4C4A-A6A4-CE4BE2F2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A75902-7C22-450D-8153-0008C1E5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69E1CC-793B-4677-AD4C-F718ED717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12AAAB-FACE-4BB8-A7AD-B05640899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0AD97-A863-4877-828D-8D188F061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29F2D-373D-48D9-B4F3-A8649227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1951C-2014-4940-82A4-1BFB1A87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68CB3-943E-45E6-9E18-BDA321A9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24E3E-3E0A-46E0-98D7-C0FD5BAF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F3F0C-A957-4910-8358-5D4AAAB4EB7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C0910B-75E3-4335-B6D1-E1B45CE5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7536A-DE2E-43A1-9349-07D472DA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1BB984-D62C-48BD-B2F7-144574A8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9EF689-111A-49BF-A595-3E99B777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24F93-47B8-4386-9A0C-8640B1C4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5B4AD-1EC4-4769-BC59-5021EB41B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6CEAB-C8A1-422E-9FFA-6AE32661F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D387E-2AF5-4729-99D7-3746E476113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3B2C61-2113-4AF4-ADB8-E1A74AA3E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5CE77-DD44-47E3-9E85-4F3E8BAEBAD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306D14-2914-4AB7-8879-8D10A10C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290ACF-E588-4657-8EE0-402194B0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32B40D-C59E-4F06-BCA3-10A0AB5D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8EF96F-D6BD-4D70-9AF4-AF5FA9E0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30A3AB-EAB5-4F29-B17B-23671677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56052D-64E6-4CF4-B866-7DCF4753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DDB142-48E9-4723-AF42-8FACC270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899727-DDA8-40A0-B315-8B9DE1FE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F35BB3-A318-4EA7-A02D-237D7B9F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ECDC48-67D0-4DEB-8B11-AEFDA6C09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B862A-5A4E-462F-AA7E-4D4BA71B56E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E57028-B70F-4EB4-B18B-6C7531B17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B853D8-652B-423E-8812-DC86660CF63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1DDC7A-DABC-49C4-93BB-3685EEDD2D5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DB6603-5997-4CC7-892C-AE13A753638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61DCD1-31DF-443E-88FC-47F08559D95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A6AA42-862E-4655-86F3-5F555D60F05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6833D6-62B1-4E84-A4D4-E83F92B30D1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2AFF62-BA4C-4EF5-A522-B1B2C40742C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7840F0-F89C-4C08-90F9-3FEAE8D30D1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047042-55D5-49C4-9019-4FCEEC8217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F1181-C493-4D04-8CDB-A7A42D51E5D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7EBCF4-29D8-422F-9313-F452949B948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31CF8F-3A32-4EC7-A271-A0B9A59AF01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CB3CCB-6EAA-4DA5-82EB-00B62D99517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7C44B-5B4E-4385-8190-1378F7B6BF9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7D7F1-F626-4080-A890-6C8B927316F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3478C-282D-496A-8E3A-75D12A3465C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C2D9B-0991-4C13-B638-9097743ABAD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75D9B-2AB6-43B7-BB39-D85B27B9A7B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1A431-B568-42E1-B2A7-DC0970D2676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075BA-CF50-4CBB-BE43-6B52108F87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B2647-AACF-4F90-AD13-EC2113FE413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7B985-A493-4CE2-9471-B64D75DEFA3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6FBAB-EE14-46D3-9607-A3167F06A48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BAD04-39FA-4BDE-BB75-54156C62BE3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524D2-A0E7-45BB-A62C-792FD046B44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84812-A0F3-4C08-98EC-FE10FE7EFEE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00BD8-D039-4DA8-AD22-D89D8B057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B3EA4-77A8-467C-A30D-C75AF83A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0A233-2CE2-4828-9DAC-EB0A8FAA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2590A-D8F7-4E0A-B118-F54DD84B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8C3CB-B8A9-4619-BC42-7E687F33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7B898-9B83-4408-8BF8-B119EA430C1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E3530-7E19-421E-966D-53A43B4D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9E4F9-F9B9-4CF2-9919-AC696C8D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C471F-C7F6-4260-8484-2525D337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F2125-FECA-4A25-AF2F-6E8EED3B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91AEA-942F-405B-ACA4-596215D4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79C5C-DCBD-4B85-8975-A1A8BF2D9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7DB50-BEBE-4CF2-90EC-330D88287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82970-E574-40DA-90FA-F0F7816CD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34003-0B3B-46FE-9E93-542C56B0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6BE0E-3B74-4659-A9D2-CBF50A23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67EB-A39F-4AEC-8B4C-67B9092984B4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ounded Rectangle 13"/>
          <p:cNvSpPr/>
          <p:nvPr/>
        </p:nvSpPr>
        <p:spPr>
          <a:xfrm>
            <a:off x="247680" y="228600"/>
            <a:ext cx="942012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14"/>
          <p:cNvSpPr/>
          <p:nvPr/>
        </p:nvSpPr>
        <p:spPr>
          <a:xfrm>
            <a:off x="6551640" y="4203720"/>
            <a:ext cx="311616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18"/>
          <p:cNvSpPr/>
          <p:nvPr/>
        </p:nvSpPr>
        <p:spPr>
          <a:xfrm>
            <a:off x="2836800" y="4075200"/>
            <a:ext cx="600732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22"/>
          <p:cNvSpPr/>
          <p:nvPr/>
        </p:nvSpPr>
        <p:spPr>
          <a:xfrm>
            <a:off x="3063960" y="4087800"/>
            <a:ext cx="59245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26"/>
          <p:cNvSpPr/>
          <p:nvPr/>
        </p:nvSpPr>
        <p:spPr>
          <a:xfrm>
            <a:off x="6076800" y="4073400"/>
            <a:ext cx="358308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10"/>
          <p:cNvSpPr/>
          <p:nvPr/>
        </p:nvSpPr>
        <p:spPr>
          <a:xfrm>
            <a:off x="228600" y="4059360"/>
            <a:ext cx="945036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19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24CD-69A0-47CF-B3A1-5994B269944E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0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1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97D1-4823-418D-B2BE-B4313C96E3C6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449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2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A096-F125-4DCC-8610-9F745236C701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3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4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6FE4-8208-425D-B5CD-341521CD3BE2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497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25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3786-5C16-4802-9D1C-9ECAF1C0D066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26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27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F763-A0C8-4463-8D20-F9033C753CAA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545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28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7166-C77E-44F0-BD47-93EF1136E096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29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0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95D6-A38D-45A2-B4F6-F00F1B67F4C2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ounded Rectangle 11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5"/>
          <p:cNvGrpSpPr/>
          <p:nvPr/>
        </p:nvGrpSpPr>
        <p:grpSpPr>
          <a:xfrm>
            <a:off x="228600" y="714240"/>
            <a:ext cx="9450360" cy="1330560"/>
            <a:chOff x="228600" y="714240"/>
            <a:chExt cx="9450360" cy="1330560"/>
          </a:xfrm>
        </p:grpSpPr>
        <p:sp>
          <p:nvSpPr>
            <p:cNvPr id="593" name="Freeform 14"/>
            <p:cNvSpPr/>
            <p:nvPr/>
          </p:nvSpPr>
          <p:spPr>
            <a:xfrm>
              <a:off x="6550200" y="85860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8"/>
            <p:cNvSpPr/>
            <p:nvPr/>
          </p:nvSpPr>
          <p:spPr>
            <a:xfrm>
              <a:off x="2836800" y="73152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2"/>
            <p:cNvSpPr/>
            <p:nvPr/>
          </p:nvSpPr>
          <p:spPr>
            <a:xfrm>
              <a:off x="3063960" y="74268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26"/>
            <p:cNvSpPr/>
            <p:nvPr/>
          </p:nvSpPr>
          <p:spPr>
            <a:xfrm>
              <a:off x="6076800" y="73008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0"/>
            <p:cNvSpPr/>
            <p:nvPr/>
          </p:nvSpPr>
          <p:spPr>
            <a:xfrm>
              <a:off x="228600" y="71424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31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8024-3EF8-4219-92A0-C15206E6E872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32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33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08D8-22F0-4E6D-B4ED-42D22C02C81E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ounded Rectangle 14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Group 23"/>
          <p:cNvGrpSpPr/>
          <p:nvPr/>
        </p:nvGrpSpPr>
        <p:grpSpPr>
          <a:xfrm>
            <a:off x="228600" y="714240"/>
            <a:ext cx="9450360" cy="1332000"/>
            <a:chOff x="228600" y="714240"/>
            <a:chExt cx="9450360" cy="1332000"/>
          </a:xfrm>
        </p:grpSpPr>
        <p:sp>
          <p:nvSpPr>
            <p:cNvPr id="641" name="Freeform 14"/>
            <p:cNvSpPr/>
            <p:nvPr/>
          </p:nvSpPr>
          <p:spPr>
            <a:xfrm>
              <a:off x="6559560" y="860040"/>
              <a:ext cx="3119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8"/>
            <p:cNvSpPr/>
            <p:nvPr/>
          </p:nvSpPr>
          <p:spPr>
            <a:xfrm>
              <a:off x="2840040" y="731520"/>
              <a:ext cx="601524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2"/>
            <p:cNvSpPr/>
            <p:nvPr/>
          </p:nvSpPr>
          <p:spPr>
            <a:xfrm>
              <a:off x="3066840" y="742680"/>
              <a:ext cx="59310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6"/>
            <p:cNvSpPr/>
            <p:nvPr/>
          </p:nvSpPr>
          <p:spPr>
            <a:xfrm>
              <a:off x="6083280" y="730080"/>
              <a:ext cx="358920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8"/>
            <p:cNvSpPr/>
            <p:nvPr/>
          </p:nvSpPr>
          <p:spPr>
            <a:xfrm>
              <a:off x="228600" y="714240"/>
              <a:ext cx="94503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34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E44B-AF9A-4B45-9157-67234BC65963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35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36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3868-B37B-44D6-94C0-54E0C1F073A6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ounded Rectangle 14"/>
          <p:cNvSpPr/>
          <p:nvPr/>
        </p:nvSpPr>
        <p:spPr>
          <a:xfrm>
            <a:off x="247680" y="228600"/>
            <a:ext cx="942012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8"/>
          <p:cNvGrpSpPr/>
          <p:nvPr/>
        </p:nvGrpSpPr>
        <p:grpSpPr>
          <a:xfrm>
            <a:off x="228600" y="5354640"/>
            <a:ext cx="9450360" cy="1330200"/>
            <a:chOff x="228600" y="5354640"/>
            <a:chExt cx="9450360" cy="1330200"/>
          </a:xfrm>
        </p:grpSpPr>
        <p:sp>
          <p:nvSpPr>
            <p:cNvPr id="689" name="Freeform 14"/>
            <p:cNvSpPr/>
            <p:nvPr/>
          </p:nvSpPr>
          <p:spPr>
            <a:xfrm>
              <a:off x="6559560" y="5499000"/>
              <a:ext cx="3119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8"/>
            <p:cNvSpPr/>
            <p:nvPr/>
          </p:nvSpPr>
          <p:spPr>
            <a:xfrm>
              <a:off x="2840040" y="5371920"/>
              <a:ext cx="601524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2"/>
            <p:cNvSpPr/>
            <p:nvPr/>
          </p:nvSpPr>
          <p:spPr>
            <a:xfrm>
              <a:off x="3066840" y="5383080"/>
              <a:ext cx="59310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6"/>
            <p:cNvSpPr/>
            <p:nvPr/>
          </p:nvSpPr>
          <p:spPr>
            <a:xfrm>
              <a:off x="6083280" y="5370480"/>
              <a:ext cx="35892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0"/>
            <p:cNvSpPr/>
            <p:nvPr/>
          </p:nvSpPr>
          <p:spPr>
            <a:xfrm>
              <a:off x="228600" y="5354640"/>
              <a:ext cx="94503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37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03FC-4E97-4DEB-9D82-290536F35C86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38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39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6E59-047B-43BD-8C45-CDC80DEE4DD2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737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40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1AC8-DD43-407C-8C60-FB8E2920BE5B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41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42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A443-C42C-4615-99F6-39F685718C02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ounded Rectangle 20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14"/>
          <p:cNvGrpSpPr/>
          <p:nvPr/>
        </p:nvGrpSpPr>
        <p:grpSpPr>
          <a:xfrm>
            <a:off x="228600" y="714240"/>
            <a:ext cx="9450360" cy="1332000"/>
            <a:chOff x="228600" y="714240"/>
            <a:chExt cx="9450360" cy="1332000"/>
          </a:xfrm>
        </p:grpSpPr>
        <p:sp>
          <p:nvSpPr>
            <p:cNvPr id="785" name="Freeform 14"/>
            <p:cNvSpPr/>
            <p:nvPr/>
          </p:nvSpPr>
          <p:spPr>
            <a:xfrm>
              <a:off x="6559560" y="860040"/>
              <a:ext cx="3119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8"/>
            <p:cNvSpPr/>
            <p:nvPr/>
          </p:nvSpPr>
          <p:spPr>
            <a:xfrm>
              <a:off x="2840040" y="731520"/>
              <a:ext cx="601524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22"/>
            <p:cNvSpPr/>
            <p:nvPr/>
          </p:nvSpPr>
          <p:spPr>
            <a:xfrm>
              <a:off x="3066840" y="742680"/>
              <a:ext cx="59310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26"/>
            <p:cNvSpPr/>
            <p:nvPr/>
          </p:nvSpPr>
          <p:spPr>
            <a:xfrm>
              <a:off x="6083280" y="730080"/>
              <a:ext cx="358920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9"/>
            <p:cNvSpPr/>
            <p:nvPr/>
          </p:nvSpPr>
          <p:spPr>
            <a:xfrm>
              <a:off x="228600" y="714240"/>
              <a:ext cx="94503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4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4409-49FE-49D7-B9C3-A2C3EB0B7100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4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4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8559-4FC9-40B7-B5EF-097A25477EC1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prezentacja_podtytul"/>
          <p:cNvPicPr/>
          <p:nvPr/>
        </p:nvPicPr>
        <p:blipFill>
          <a:blip r:embed="rId2"/>
          <a:stretch/>
        </p:blipFill>
        <p:spPr>
          <a:xfrm>
            <a:off x="-203040" y="-139680"/>
            <a:ext cx="10312200" cy="7137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639800" y="1600200"/>
            <a:ext cx="77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84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2BBC-91D3-4F1F-A636-EDA266D6F5FB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Komponent Central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7AA0-F06D-4BBE-91C0-B1E7C64EC491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32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prezentacja_podtytul"/>
          <p:cNvPicPr/>
          <p:nvPr/>
        </p:nvPicPr>
        <p:blipFill>
          <a:blip r:embed="rId5"/>
          <a:stretch/>
        </p:blipFill>
        <p:spPr>
          <a:xfrm>
            <a:off x="-203040" y="-139680"/>
            <a:ext cx="10312200" cy="7137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74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prezentacja_tytul"/>
          <p:cNvPicPr/>
          <p:nvPr/>
        </p:nvPicPr>
        <p:blipFill>
          <a:blip r:embed="rId5"/>
          <a:stretch/>
        </p:blipFill>
        <p:spPr>
          <a:xfrm>
            <a:off x="0" y="1440"/>
            <a:ext cx="9906120" cy="6855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znak_KAPITAL_LUDZKI"/>
          <p:cNvPicPr/>
          <p:nvPr/>
        </p:nvPicPr>
        <p:blipFill>
          <a:blip r:embed="rId6"/>
          <a:stretch/>
        </p:blipFill>
        <p:spPr>
          <a:xfrm>
            <a:off x="2143080" y="4716360"/>
            <a:ext cx="3457800" cy="1683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6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7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8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20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ftr" idx="9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0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63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ftr" idx="1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ounded Rectangle 15"/>
          <p:cNvSpPr/>
          <p:nvPr/>
        </p:nvSpPr>
        <p:spPr>
          <a:xfrm>
            <a:off x="247680" y="228600"/>
            <a:ext cx="942012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9"/>
          <p:cNvGrpSpPr/>
          <p:nvPr/>
        </p:nvGrpSpPr>
        <p:grpSpPr>
          <a:xfrm>
            <a:off x="228600" y="5354640"/>
            <a:ext cx="9450360" cy="1330200"/>
            <a:chOff x="228600" y="5354640"/>
            <a:chExt cx="9450360" cy="1330200"/>
          </a:xfrm>
        </p:grpSpPr>
        <p:sp>
          <p:nvSpPr>
            <p:cNvPr id="306" name="Freeform 14"/>
            <p:cNvSpPr/>
            <p:nvPr/>
          </p:nvSpPr>
          <p:spPr>
            <a:xfrm>
              <a:off x="6559560" y="5499000"/>
              <a:ext cx="3119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"/>
            <p:cNvSpPr/>
            <p:nvPr/>
          </p:nvSpPr>
          <p:spPr>
            <a:xfrm>
              <a:off x="2840040" y="5371920"/>
              <a:ext cx="601524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2"/>
            <p:cNvSpPr/>
            <p:nvPr/>
          </p:nvSpPr>
          <p:spPr>
            <a:xfrm>
              <a:off x="3066840" y="5383080"/>
              <a:ext cx="59310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6"/>
            <p:cNvSpPr/>
            <p:nvPr/>
          </p:nvSpPr>
          <p:spPr>
            <a:xfrm>
              <a:off x="6083280" y="5370480"/>
              <a:ext cx="35892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0"/>
            <p:cNvSpPr/>
            <p:nvPr/>
          </p:nvSpPr>
          <p:spPr>
            <a:xfrm>
              <a:off x="228600" y="5354640"/>
              <a:ext cx="94503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48AD-C2A4-4979-8CD1-4B68A1D60BA2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1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1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C6EC-CA8B-40E3-95DC-B7D244EE541E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354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16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7654-3793-4E33-8227-E555E96BD0BC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17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18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C93F-D946-4193-8BAD-9E73256BF3D5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sip.legalis.pl/document-view.seam?documentId=mfrxilrtge2tqmrtgu2tsltqmfyc4mzrga2dqnbwgm" TargetMode="External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9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9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9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9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9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9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9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9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9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9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9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9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9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72880" y="259920"/>
            <a:ext cx="9360000" cy="597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pl-PL" sz="4400" spc="-1" strike="noStrike">
                <a:solidFill>
                  <a:srgbClr val="ffffff"/>
                </a:solidFill>
                <a:latin typeface="Candara"/>
              </a:rPr>
              <a:t>Kontraktowanie</a:t>
            </a:r>
            <a:br>
              <a:rPr sz="4400"/>
            </a:br>
            <a:r>
              <a:rPr b="1" lang="pl-PL" sz="4400" spc="-1" strike="noStrike">
                <a:solidFill>
                  <a:srgbClr val="ffffff"/>
                </a:solidFill>
                <a:latin typeface="Candara"/>
              </a:rPr>
              <a:t>świadczeń opieki zdrowotnej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pl-PL" sz="4400" spc="-1" strike="noStrike">
                <a:solidFill>
                  <a:srgbClr val="ff0000"/>
                </a:solidFill>
                <a:latin typeface="Candara"/>
              </a:rPr>
              <a:t>KRYTERIA OCENY OFERT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 txBox="1"/>
          <p:nvPr/>
        </p:nvSpPr>
        <p:spPr>
          <a:xfrm>
            <a:off x="415800" y="1052280"/>
            <a:ext cx="9074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§ 2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Użyte w rozporządzeniu określenia oznaczają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10)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lokalizacja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 - budynek lub zespół budynków oznaczonych tym samym adresem </a:t>
            </a:r>
            <a:br>
              <a:rPr sz="2000"/>
            </a:b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albo oznaczonych innymi adresami, ale położonych obok siebie i tworzących funkcjonalną całość, w których jest zlokalizowane miejsce udzielania świadczeń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11)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miejsce udzielania świadczeń 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- pomieszczenie lub zespół pomieszczeń w tej samej lokalizacji, powiązanych funkcjonalnie i organizacyjnie w celu wykonywania świadczeń gwarantowanych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415800" y="1052280"/>
            <a:ext cx="9074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§ 5 ust. 1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Oferent, który deklaruje spełnianie warunku podlegającego ocenie, jest obowiązany </a:t>
            </a:r>
            <a:br>
              <a:rPr sz="2000"/>
            </a:b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go spełniać 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w okresie związania ofertą 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oraz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przez cały okres realizacji umowy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, </a:t>
            </a:r>
            <a:br>
              <a:rPr sz="2000"/>
            </a:b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chyba że przepisy rozporządzenia stanowią inaczej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§ 5 ust. 2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2862aa"/>
                </a:solidFill>
                <a:uFillTx/>
                <a:latin typeface="Times New Roman"/>
              </a:rPr>
              <a:t>Oferent, który zadeklarował spełnianie określonego warunku podlegającego ocenie, jest obowiązany go spełniać </a:t>
            </a:r>
            <a:r>
              <a:rPr b="1" lang="pl-PL" sz="2400" spc="-1" strike="noStrike" u="sng">
                <a:solidFill>
                  <a:srgbClr val="ff0000"/>
                </a:solidFill>
                <a:uFillTx/>
                <a:latin typeface="Times New Roman"/>
              </a:rPr>
              <a:t>dodatkowo ponad</a:t>
            </a:r>
            <a:r>
              <a:rPr b="0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pl-PL" sz="2400" spc="-1" strike="noStrike" u="sng">
                <a:solidFill>
                  <a:srgbClr val="2862aa"/>
                </a:solidFill>
                <a:uFillTx/>
                <a:latin typeface="Times New Roman"/>
              </a:rPr>
              <a:t>warunki realizacji świadczeń określone w rozporządzeniach wydanych na podstawie art. 31d ustawy o świadczeniach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 txBox="1"/>
          <p:nvPr/>
        </p:nvSpPr>
        <p:spPr>
          <a:xfrm>
            <a:off x="272880" y="620280"/>
            <a:ext cx="9360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§ 6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1) certyfikat ma zastosowanie w przedmiocie postępowania, na który złożono ofertę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2) certyfikat obejmuje miejsce udzielania świadczeń wskazane w ofercie, a w przypadku dysponenta zespołów ratownictwa medycznego - miejsce stacjonowania zespołów ratownictwa medycznego wskazane w oferci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3)  certyfikat jest wydany przez jednostkę certyfikującą systemy zarządzania posiadającą akredytację udzieloną przez Polskie Centrum Akredytacji lub przez jednostkę akredytującą będącą sygnatariuszem porozumienia o wzajemnym uznawaniu </a:t>
            </a:r>
            <a:br>
              <a:rPr sz="2000"/>
            </a:b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„EA Multilateral Agreement” i jest opatrzony symbolem akredytacji jednostki akredytującej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4) certyfikat jest wydany w zakresie systemów zarządzania: ISO 9001, ISO/IEC 27001, ISO 17025 lub 15189 - zgodnie z ich przyporządkowaniem do poszczególnych zakresów świadczeń wynikającym z załączników do rozporządzenia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5) akredytacja, o której mowa w pkt 3, obejmuje certyfikację systemów zarządzania wymienionych w pkt 4 oraz jest wydana w zakresie usług medycznych (branża „Zdrowie i opieka społeczna” zgodnie z kodem 38 EA, w przypadku: ISO 9001, ISO 14001, </a:t>
            </a:r>
            <a:br>
              <a:rPr sz="2000"/>
            </a:b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PN-N 18001 lub OHSAS 18001)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 txBox="1"/>
          <p:nvPr/>
        </p:nvSpPr>
        <p:spPr>
          <a:xfrm>
            <a:off x="415440" y="620640"/>
            <a:ext cx="9001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§ 7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Kryterium wpisu do rejestru jest spełnione, jeżeli wpis jest ujawniony w księdze rejestrowej oferenta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§ 8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Kryterium "jakość - wyniki kontroli" jest spełnione, jeżeli nieprawidłowość dotyczy umowy realizowanej w dniu złożenia oferty w ramach danego zakresu świadczeń </a:t>
            </a:r>
            <a:br>
              <a:rPr sz="2000"/>
            </a:b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i w ramach obszaru, którego dotyczy postępowanie, oraz została stwierdzona </a:t>
            </a:r>
            <a:br>
              <a:rPr sz="2000"/>
            </a:b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w postępowaniu kontrolnym zakończonym wystąpieniem pokontrolnym lub w trakcie monitorowania, o którym mowa w art. 107 ust. 5 pkt 12 ustawy o świadczeniach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 txBox="1"/>
          <p:nvPr/>
        </p:nvSpPr>
        <p:spPr>
          <a:xfrm>
            <a:off x="944280" y="1700280"/>
            <a:ext cx="80262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Jakość wyniki kontroli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Przedmiotowe kryterium obejmuje wszystkie kontrole </a:t>
            </a:r>
            <a:br>
              <a:rPr sz="2400"/>
            </a:b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(a nie jedynie ostatnią), dotyczące umowy realizowanej </a:t>
            </a:r>
            <a:br>
              <a:rPr sz="2400"/>
            </a:b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w dniu złożenia oferty w ramach danego zakresu świadczeń i w ramach obszaru, którego dotyczy postępowanie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 txBox="1"/>
          <p:nvPr/>
        </p:nvSpPr>
        <p:spPr>
          <a:xfrm>
            <a:off x="488880" y="620640"/>
            <a:ext cx="9072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§ 9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W przypadku uzyskania jednakowej łącznej oceny oferty przez co najmniej dwóch oferentów kryterium różnicującym oferty stanowi ocena uzyskana w kolejności według następujących kryteriów: </a:t>
            </a: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jakość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, </a:t>
            </a: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kompleksowość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, </a:t>
            </a: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dostępność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, </a:t>
            </a: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ciągłość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 oraz </a:t>
            </a: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cena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 txBox="1"/>
          <p:nvPr/>
        </p:nvSpPr>
        <p:spPr>
          <a:xfrm>
            <a:off x="344520" y="1341000"/>
            <a:ext cx="9145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Świadczenia pielęgnacyjne i opiekuńcze w ramach opieki długoterminowej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– </a:t>
            </a: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świadczenia w pielęgniarskiej opiece długoterminowej domowej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5" name="Picture 2" descr=""/>
          <p:cNvPicPr/>
          <p:nvPr/>
        </p:nvPicPr>
        <p:blipFill>
          <a:blip r:embed="rId1"/>
          <a:stretch/>
        </p:blipFill>
        <p:spPr>
          <a:xfrm>
            <a:off x="933480" y="1341360"/>
            <a:ext cx="811044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6" name=""/>
          <p:cNvGraphicFramePr/>
          <p:nvPr/>
        </p:nvGraphicFramePr>
        <p:xfrm>
          <a:off x="776160" y="2276640"/>
          <a:ext cx="8498160" cy="3097080"/>
        </p:xfrm>
        <a:graphic>
          <a:graphicData uri="http://schemas.openxmlformats.org/drawingml/2006/table">
            <a:tbl>
              <a:tblPr/>
              <a:tblGrid>
                <a:gridCol w="8498160"/>
              </a:tblGrid>
              <a:tr h="309708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eniając przedmiotowy warunek należy brać pod uwagę tylko pielęgniarki z ukończoną specjalizacją lub kursem kwalifikacyjnym we wskazanej dziedzinie pielęgniarstwa, 40% liczone od sumy wykazanego czasu pracy pielęgniarek w oferci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Picture 2" descr=""/>
          <p:cNvPicPr/>
          <p:nvPr/>
        </p:nvPicPr>
        <p:blipFill>
          <a:blip r:embed="rId1"/>
          <a:stretch/>
        </p:blipFill>
        <p:spPr>
          <a:xfrm>
            <a:off x="631800" y="1744560"/>
            <a:ext cx="871380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 txBox="1"/>
          <p:nvPr/>
        </p:nvSpPr>
        <p:spPr>
          <a:xfrm>
            <a:off x="560160" y="1484280"/>
            <a:ext cx="9001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Rozporządzenie Ministra Zdrowia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w sprawie szczegółowych kryteriów wyboru ofert w postępowaniu w sprawie zawarcia umów </a:t>
            </a:r>
            <a:br>
              <a:rPr sz="3200"/>
            </a:b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o udzielanie świadczeń opieki zdrowotnej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z dnia 5 sierpnia 2016 r.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(Dz.U. z 2016 r. poz. 1372)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0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BB3F-9DAE-4114-BB1F-57C008CBDE7D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8" name=""/>
          <p:cNvGraphicFramePr/>
          <p:nvPr/>
        </p:nvGraphicFramePr>
        <p:xfrm>
          <a:off x="776160" y="2276640"/>
          <a:ext cx="8498160" cy="3097080"/>
        </p:xfrm>
        <a:graphic>
          <a:graphicData uri="http://schemas.openxmlformats.org/drawingml/2006/table">
            <a:tbl>
              <a:tblPr/>
              <a:tblGrid>
                <a:gridCol w="8498160"/>
              </a:tblGrid>
              <a:tr h="309708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eniając warunek „Pielęgniarki z co najmniej 2-letnim doświadczeniem w udzielaniu świadczeń w warunkach domowych…” – bierze się pod uwagę udokumentowany staż pracy w pielęgniarskiej opiece długoterminowej domowej, podstawowej opiece zdrowotnej (pielęgniarki poz), pracy w domu pomocy społecznej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9" name=""/>
          <p:cNvGraphicFramePr/>
          <p:nvPr/>
        </p:nvGraphicFramePr>
        <p:xfrm>
          <a:off x="776160" y="2276640"/>
          <a:ext cx="8498160" cy="3097080"/>
        </p:xfrm>
        <a:graphic>
          <a:graphicData uri="http://schemas.openxmlformats.org/drawingml/2006/table">
            <a:tbl>
              <a:tblPr/>
              <a:tblGrid>
                <a:gridCol w="8498160"/>
              </a:tblGrid>
              <a:tr h="309708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eniając warunek „Pielęgniarki z co najmniej 3-letnim doświadczeniem w pielęgnacji chorych w warunkach oddziału szpitalnego …” – bierze się pod uwagę udokumentowany staż pracy w warunkach oddziału szpitalnego (bez izby przyjęć, SOR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0" name=""/>
          <p:cNvGraphicFramePr/>
          <p:nvPr/>
        </p:nvGraphicFramePr>
        <p:xfrm>
          <a:off x="776160" y="2276640"/>
          <a:ext cx="8498160" cy="3097080"/>
        </p:xfrm>
        <a:graphic>
          <a:graphicData uri="http://schemas.openxmlformats.org/drawingml/2006/table">
            <a:tbl>
              <a:tblPr/>
              <a:tblGrid>
                <a:gridCol w="8498160"/>
              </a:tblGrid>
              <a:tr h="309708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eniając warunek „Co najmniej 50% pielęgniarek udziela świadczeń w wymiarze równoważnika 1 etatu” – dotyczy liczby pielęgniarek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a nie czasu pracy pielęgniarek) i tylko umów o pracę (wyjątek samozatrudnienie tj. indywidualne, grupowe praktyki pielęgniarskie) należy pamiętać o konieczności spełniania tego warunku przez cały okres obowiązywania umow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1" name="Picture 2" descr=""/>
          <p:cNvPicPr/>
          <p:nvPr/>
        </p:nvPicPr>
        <p:blipFill>
          <a:blip r:embed="rId1"/>
          <a:stretch/>
        </p:blipFill>
        <p:spPr>
          <a:xfrm>
            <a:off x="631800" y="2792520"/>
            <a:ext cx="871380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2" name=""/>
          <p:cNvGraphicFramePr/>
          <p:nvPr/>
        </p:nvGraphicFramePr>
        <p:xfrm>
          <a:off x="776160" y="2276640"/>
          <a:ext cx="8498160" cy="3097080"/>
        </p:xfrm>
        <a:graphic>
          <a:graphicData uri="http://schemas.openxmlformats.org/drawingml/2006/table">
            <a:tbl>
              <a:tblPr/>
              <a:tblGrid>
                <a:gridCol w="8498160"/>
              </a:tblGrid>
              <a:tr h="309708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eniając przedmiotowy warunek należy brać pod uwagę wszystkich świadczeniobiorców, którzy otrzymali ocenę według skali Barthel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5 ze skierowania lub uzyskali taką oceną przynajmniej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 w trakcie pielęgniarskiej opieki długoterminowej domowej i byli objęci taką opieką przez co najmniej 90 dni w okresie ostatnich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miesięcy poprzedzających o 2 miesiące miesiąc, w którym ogłoszono postępowanie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Picture 2" descr=""/>
          <p:cNvPicPr/>
          <p:nvPr/>
        </p:nvPicPr>
        <p:blipFill>
          <a:blip r:embed="rId1"/>
          <a:stretch/>
        </p:blipFill>
        <p:spPr>
          <a:xfrm>
            <a:off x="488880" y="2433600"/>
            <a:ext cx="892800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4" name=""/>
          <p:cNvGraphicFramePr/>
          <p:nvPr/>
        </p:nvGraphicFramePr>
        <p:xfrm>
          <a:off x="488880" y="1484280"/>
          <a:ext cx="8785440" cy="403380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439884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 obliczeń procentowego udziału świadczeniobiorców z oceną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punktów w skali Barthel, należy brać pod uwagę wszystkie osoby objęte pielęgniarską opieką długoterminową domową, które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 załączonej do skierowania karcie oceny lub w trakcie opieki uzyskały przynajmniej raz ocenę 0 punktów w skali Barthel, w stosunku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 wszystkich osób objętych tą formą opieki przez danego świadczeniodawcę. Sformułowanie "objętych opieką w ramach pielęgniarskiej opieki długoterminowej domowej" oznacza zarówno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 osoby , które zostały przyjęte do takiej opieki w badanym okresie czasu, jak i te osoby, które były przyjęte wcześniej, a kontynuowały opiekę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5" name="Picture 2" descr=""/>
          <p:cNvPicPr/>
          <p:nvPr/>
        </p:nvPicPr>
        <p:blipFill>
          <a:blip r:embed="rId1"/>
          <a:stretch/>
        </p:blipFill>
        <p:spPr>
          <a:xfrm>
            <a:off x="488880" y="2701800"/>
            <a:ext cx="8928000" cy="19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6" name=""/>
          <p:cNvGraphicFramePr/>
          <p:nvPr/>
        </p:nvGraphicFramePr>
        <p:xfrm>
          <a:off x="704880" y="1700280"/>
          <a:ext cx="8496360" cy="3384360"/>
        </p:xfrm>
        <a:graphic>
          <a:graphicData uri="http://schemas.openxmlformats.org/drawingml/2006/table">
            <a:tbl>
              <a:tblPr/>
              <a:tblGrid>
                <a:gridCol w="8496360"/>
              </a:tblGrid>
              <a:tr h="33843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da wyliczania jest analogiczna jak w ppkt.1.2 Podstawę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 wyliczenia stanowią wszystkie osoby objęte pielęgniarską opieką długoterminową, które w trakcie opieki przynajmniej raz otrzymały ocenę 5-15 punktów w skali Barthel, w stosunku do wszystkich osób objętych tą formą opieki przez danego świadczeniodawcę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Picture 2" descr=""/>
          <p:cNvPicPr/>
          <p:nvPr/>
        </p:nvPicPr>
        <p:blipFill>
          <a:blip r:embed="rId1"/>
          <a:stretch/>
        </p:blipFill>
        <p:spPr>
          <a:xfrm>
            <a:off x="488880" y="2576520"/>
            <a:ext cx="89280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 txBox="1"/>
          <p:nvPr/>
        </p:nvSpPr>
        <p:spPr>
          <a:xfrm>
            <a:off x="488520" y="1196640"/>
            <a:ext cx="9001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Rozporządzenie określa </a:t>
            </a:r>
            <a:r>
              <a:rPr b="1" lang="pl-PL" sz="3200" spc="-1" strike="noStrike" u="sng">
                <a:solidFill>
                  <a:srgbClr val="ff0000"/>
                </a:solidFill>
                <a:uFillTx/>
                <a:latin typeface="Candara"/>
              </a:rPr>
              <a:t>szczegółowe kryteria wyboru ofert </a:t>
            </a: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w postępowaniu w sprawie zawarcia umów o udzielanie świadczeń opieki zdrowotnej </a:t>
            </a:r>
            <a:r>
              <a:rPr b="1" lang="pl-PL" sz="3200" spc="-1" strike="noStrike" u="sng">
                <a:solidFill>
                  <a:srgbClr val="ff0000"/>
                </a:solidFill>
                <a:uFillTx/>
                <a:latin typeface="Candara"/>
              </a:rPr>
              <a:t>w podziale na poszczególne zakresy lub rodzaje świadczeń opieki zdrowotnej </a:t>
            </a:r>
            <a:br>
              <a:rPr sz="3200"/>
            </a:b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na podstawie </a:t>
            </a:r>
            <a:r>
              <a:rPr b="0" lang="pl-PL" sz="3200" spc="-1" strike="noStrike" u="sng">
                <a:solidFill>
                  <a:srgbClr val="0080ff"/>
                </a:solidFill>
                <a:uFillTx/>
                <a:latin typeface="Candara"/>
                <a:hlinkClick r:id="rId1"/>
              </a:rPr>
              <a:t>art. 148 ust. 3</a:t>
            </a: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 ustawy </a:t>
            </a:r>
            <a:br>
              <a:rPr sz="3200"/>
            </a:b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z dnia 27 sierpnia 2004 r. o świadczeniach opieki zdrowotnej finansowanych ze środków publicznych ( t.j. Dz.U. z 2018 r. poz. 1510)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2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8B43-4332-442F-B8B0-8C37F69BDF26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8" name=""/>
          <p:cNvGraphicFramePr/>
          <p:nvPr/>
        </p:nvGraphicFramePr>
        <p:xfrm>
          <a:off x="704880" y="1484280"/>
          <a:ext cx="8569440" cy="396072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39607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leży przyjąć, że kryterium jest spełnione, jeżeli dotyczy wszystkich świadczeniobiorców objętych świadczeniami pielęgniarskiej opieki długoterminowej domowej w okresach pomiędzy wszystkimi hospitalizacjami oraz po ich zakończeniu, z wyłączeniem zgonu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b objęcia świadczeniobiorcy inną formą opieki w ramach świadczeń opieki zdrowotnej finansowanych ze środków publicznych. Spełnienie ww. warunku kryterialnych oferent może potwierdzić na podstawie zgromadzonej dokumentacji medycznej. np. w sytuacji gdy pacjent zrezygnuje ze świadczeń pielęgniarskiej opieki długoterminowej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2" descr=""/>
          <p:cNvPicPr/>
          <p:nvPr/>
        </p:nvPicPr>
        <p:blipFill>
          <a:blip r:embed="rId1"/>
          <a:stretch/>
        </p:blipFill>
        <p:spPr>
          <a:xfrm>
            <a:off x="488880" y="3292560"/>
            <a:ext cx="8928000" cy="73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0" name="Picture 2" descr=""/>
          <p:cNvPicPr/>
          <p:nvPr/>
        </p:nvPicPr>
        <p:blipFill>
          <a:blip r:embed="rId1"/>
          <a:stretch/>
        </p:blipFill>
        <p:spPr>
          <a:xfrm>
            <a:off x="704880" y="1197000"/>
            <a:ext cx="82090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1" name="Picture 2" descr=""/>
          <p:cNvPicPr/>
          <p:nvPr/>
        </p:nvPicPr>
        <p:blipFill>
          <a:blip r:embed="rId1"/>
          <a:stretch/>
        </p:blipFill>
        <p:spPr>
          <a:xfrm>
            <a:off x="488880" y="2643120"/>
            <a:ext cx="892800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Picture 2" descr=""/>
          <p:cNvPicPr/>
          <p:nvPr/>
        </p:nvPicPr>
        <p:blipFill>
          <a:blip r:embed="rId1"/>
          <a:stretch/>
        </p:blipFill>
        <p:spPr>
          <a:xfrm>
            <a:off x="488880" y="2492280"/>
            <a:ext cx="8928000" cy="20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3" name="Picture 2" descr=""/>
          <p:cNvPicPr/>
          <p:nvPr/>
        </p:nvPicPr>
        <p:blipFill>
          <a:blip r:embed="rId1"/>
          <a:stretch/>
        </p:blipFill>
        <p:spPr>
          <a:xfrm>
            <a:off x="488880" y="2421000"/>
            <a:ext cx="892800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4" name=""/>
          <p:cNvGraphicFramePr/>
          <p:nvPr/>
        </p:nvGraphicFramePr>
        <p:xfrm>
          <a:off x="776160" y="2205000"/>
          <a:ext cx="8425080" cy="3095640"/>
        </p:xfrm>
        <a:graphic>
          <a:graphicData uri="http://schemas.openxmlformats.org/drawingml/2006/table">
            <a:tbl>
              <a:tblPr/>
              <a:tblGrid>
                <a:gridCol w="8425080"/>
              </a:tblGrid>
              <a:tr h="309564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unek jest spełniony, gdy oferent wg stanu na dzień złożenia oferty udziela świadczeń w ramach zawartej umowy w danym zakresie świadczeń oraz w danym obszarze, na który zostało ogłoszone postępowanie. </a:t>
                      </a:r>
                      <a:r>
                        <a:rPr b="0" lang="pl-PL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otyczy także sytuacji dokonania sukcesji generalnej czy cesji umowy, cesjonariusz (sukcesor) wchodzi w ogół praw i obowiązków wynikających z umowy o udzielanie świadczeń opieki zdrowotnej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5" name="Picture 2" descr=""/>
          <p:cNvPicPr/>
          <p:nvPr/>
        </p:nvPicPr>
        <p:blipFill>
          <a:blip r:embed="rId1"/>
          <a:stretch/>
        </p:blipFill>
        <p:spPr>
          <a:xfrm>
            <a:off x="415800" y="2492280"/>
            <a:ext cx="8928360" cy="18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6" name=""/>
          <p:cNvGraphicFramePr/>
          <p:nvPr/>
        </p:nvGraphicFramePr>
        <p:xfrm>
          <a:off x="776160" y="1773360"/>
          <a:ext cx="8498160" cy="3600360"/>
        </p:xfrm>
        <a:graphic>
          <a:graphicData uri="http://schemas.openxmlformats.org/drawingml/2006/table">
            <a:tbl>
              <a:tblPr/>
              <a:tblGrid>
                <a:gridCol w="8498160"/>
              </a:tblGrid>
              <a:tr h="18907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unek spełniony, gdy oferent wg stanu na dzień złożenia oferty udziela świadczeń w ramach zawartej umowy od 5 lat w danym zakresie świadczeń oraz w danym obszarze, na który zostało ogłoszone postępowanie (komórka organizacyjna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0964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unek spełniony, gdy oferent wg stanu na dzień złożenia oferty udziela świadczeń w ramach zawartej umowy od 10 lat w danym zakresie świadczeń oraz w danym obszarze, na który zostało ogłoszone postępowanie (komórka organizacyjna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Picture 2" descr=""/>
          <p:cNvPicPr/>
          <p:nvPr/>
        </p:nvPicPr>
        <p:blipFill>
          <a:blip r:embed="rId1"/>
          <a:stretch/>
        </p:blipFill>
        <p:spPr>
          <a:xfrm>
            <a:off x="560520" y="2565360"/>
            <a:ext cx="871380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FE64-CEE6-4908-8458-FA9340E6B2F8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Picture 5" descr=""/>
          <p:cNvPicPr/>
          <p:nvPr/>
        </p:nvPicPr>
        <p:blipFill>
          <a:blip r:embed="rId1"/>
          <a:stretch/>
        </p:blipFill>
        <p:spPr>
          <a:xfrm>
            <a:off x="920880" y="1700280"/>
            <a:ext cx="8208720" cy="3989160"/>
          </a:xfrm>
          <a:prstGeom prst="rect">
            <a:avLst/>
          </a:prstGeom>
          <a:ln w="0">
            <a:noFill/>
          </a:ln>
        </p:spPr>
      </p:pic>
      <p:sp>
        <p:nvSpPr>
          <p:cNvPr id="845" name="Strzałka w lewo 1"/>
          <p:cNvSpPr/>
          <p:nvPr/>
        </p:nvSpPr>
        <p:spPr>
          <a:xfrm>
            <a:off x="8481960" y="2433600"/>
            <a:ext cx="1008000" cy="2872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Picture 6" descr=""/>
          <p:cNvPicPr/>
          <p:nvPr/>
        </p:nvPicPr>
        <p:blipFill>
          <a:blip r:embed="rId2"/>
          <a:stretch/>
        </p:blipFill>
        <p:spPr>
          <a:xfrm>
            <a:off x="8459640" y="3573360"/>
            <a:ext cx="1030320" cy="304920"/>
          </a:xfrm>
          <a:prstGeom prst="rect">
            <a:avLst/>
          </a:prstGeom>
          <a:ln w="0">
            <a:noFill/>
          </a:ln>
        </p:spPr>
      </p:pic>
      <p:sp>
        <p:nvSpPr>
          <p:cNvPr id="847" name="Strzałka w lewo 7"/>
          <p:cNvSpPr/>
          <p:nvPr/>
        </p:nvSpPr>
        <p:spPr>
          <a:xfrm>
            <a:off x="8459640" y="4941720"/>
            <a:ext cx="1008360" cy="287640"/>
          </a:xfrm>
          <a:prstGeom prst="leftArrow">
            <a:avLst>
              <a:gd name="adj1" fmla="val 50000"/>
              <a:gd name="adj2" fmla="val 49955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 txBox="1"/>
          <p:nvPr/>
        </p:nvSpPr>
        <p:spPr>
          <a:xfrm>
            <a:off x="344520" y="1341000"/>
            <a:ext cx="9145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Opieka paliatywna i hospicyjn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 – </a:t>
            </a: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świadczenia w hospicjum domowym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9" name="Picture 3" descr=""/>
          <p:cNvPicPr/>
          <p:nvPr/>
        </p:nvPicPr>
        <p:blipFill>
          <a:blip r:embed="rId1"/>
          <a:stretch/>
        </p:blipFill>
        <p:spPr>
          <a:xfrm>
            <a:off x="944640" y="1268280"/>
            <a:ext cx="802620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Picture 2" descr=""/>
          <p:cNvPicPr/>
          <p:nvPr/>
        </p:nvPicPr>
        <p:blipFill>
          <a:blip r:embed="rId1"/>
          <a:stretch/>
        </p:blipFill>
        <p:spPr>
          <a:xfrm>
            <a:off x="560520" y="1557360"/>
            <a:ext cx="841032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1" name="Picture 2" descr=""/>
          <p:cNvPicPr/>
          <p:nvPr/>
        </p:nvPicPr>
        <p:blipFill>
          <a:blip r:embed="rId1"/>
          <a:stretch/>
        </p:blipFill>
        <p:spPr>
          <a:xfrm>
            <a:off x="560520" y="2205000"/>
            <a:ext cx="841032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2" name="Picture 2" descr=""/>
          <p:cNvPicPr/>
          <p:nvPr/>
        </p:nvPicPr>
        <p:blipFill>
          <a:blip r:embed="rId1"/>
          <a:stretch/>
        </p:blipFill>
        <p:spPr>
          <a:xfrm>
            <a:off x="560520" y="1644480"/>
            <a:ext cx="841032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3" name="Picture 2" descr=""/>
          <p:cNvPicPr/>
          <p:nvPr/>
        </p:nvPicPr>
        <p:blipFill>
          <a:blip r:embed="rId1"/>
          <a:stretch/>
        </p:blipFill>
        <p:spPr>
          <a:xfrm>
            <a:off x="560520" y="2276640"/>
            <a:ext cx="856908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4" name="Picture 2" descr=""/>
          <p:cNvPicPr/>
          <p:nvPr/>
        </p:nvPicPr>
        <p:blipFill>
          <a:blip r:embed="rId1"/>
          <a:stretch/>
        </p:blipFill>
        <p:spPr>
          <a:xfrm>
            <a:off x="560520" y="2421000"/>
            <a:ext cx="885636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Picture 2" descr=""/>
          <p:cNvPicPr/>
          <p:nvPr/>
        </p:nvPicPr>
        <p:blipFill>
          <a:blip r:embed="rId1"/>
          <a:stretch/>
        </p:blipFill>
        <p:spPr>
          <a:xfrm>
            <a:off x="560520" y="2421000"/>
            <a:ext cx="841032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 txBox="1"/>
          <p:nvPr/>
        </p:nvSpPr>
        <p:spPr>
          <a:xfrm>
            <a:off x="944280" y="1125360"/>
            <a:ext cx="8026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Candara"/>
              </a:rPr>
              <a:t>Problematyczne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eryfikacja spełnienia warunku w którym występuje pojęcie „świadczeniobiorcy” przez oferentów, którzy nie byli dotychczas stroną umowy zawartej z NFZ (opinia MZ wskazująca na równe traktowanie wszystkich świadczeniodawców ubiegających się o zawarcie umowy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eryfikacja warunków dodatkowo ocenianych powinno być prowadzone w oparciu o dostępne dla NFZ dane, </a:t>
            </a:r>
            <a:br>
              <a:rPr sz="2400"/>
            </a:b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 przypadku danych niedostępnych dla NFZ, oferent który zadeklarował spełnianie określonego warunku, jest zobowiązany go udokumentować. Potwierdzenie jest możliwe w szczególności na podstawie zgromadzonej dokumentacji medycznej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2" descr=""/>
          <p:cNvPicPr/>
          <p:nvPr/>
        </p:nvPicPr>
        <p:blipFill>
          <a:blip r:embed="rId1"/>
          <a:stretch/>
        </p:blipFill>
        <p:spPr>
          <a:xfrm>
            <a:off x="1446120" y="3048120"/>
            <a:ext cx="70167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 txBox="1"/>
          <p:nvPr/>
        </p:nvSpPr>
        <p:spPr>
          <a:xfrm>
            <a:off x="415440" y="1700280"/>
            <a:ext cx="91458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Wyrażenie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„</a:t>
            </a: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12 miesięcy poprzedzających o 2 miesiące miesiąc, </a:t>
            </a:r>
            <a:br>
              <a:rPr sz="2400"/>
            </a:b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w którym ogłoszono postępowanie” np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ogłoszenie postępowania konkursowego w dniu 7 marca 2019 r. wówczas należy brać pod uwagę okres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od 1 stycznia 2018 r. do 31 grudnia 2018 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2"/>
          <p:cNvSpPr/>
          <p:nvPr/>
        </p:nvSpPr>
        <p:spPr>
          <a:xfrm>
            <a:off x="631800" y="2060640"/>
            <a:ext cx="87850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2d83f4"/>
                </a:solidFill>
                <a:latin typeface="Candara"/>
                <a:ea typeface="Arial"/>
              </a:rPr>
              <a:t>Dziękuję za uwagę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2"/>
          <p:cNvSpPr/>
          <p:nvPr/>
        </p:nvSpPr>
        <p:spPr>
          <a:xfrm>
            <a:off x="5240160" y="436572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2"/>
          <p:cNvSpPr/>
          <p:nvPr/>
        </p:nvSpPr>
        <p:spPr>
          <a:xfrm>
            <a:off x="5168880" y="508464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 txBox="1"/>
          <p:nvPr/>
        </p:nvSpPr>
        <p:spPr>
          <a:xfrm>
            <a:off x="452160" y="1484280"/>
            <a:ext cx="90010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09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109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Świadczenia pielęgnacyjne i opiekuńcze </a:t>
            </a:r>
            <a:br>
              <a:rPr sz="3200"/>
            </a:b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w ramach opieki długoterminowej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109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Rozporządzenie Ministra Zdrowia zmieniające rozporządzenie </a:t>
            </a:r>
            <a:br>
              <a:rPr sz="2400"/>
            </a:b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w sprawie szczegółowych kryteriów wyboru ofert </a:t>
            </a:r>
            <a:br>
              <a:rPr sz="2400"/>
            </a:b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w postępowaniu w sprawie zawarcia umów o udzielanie świadczeń opieki zdrowotnej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z dnia 8 lutego 2018 r. (Dz.U. z 2018 r. poz. 385) – </a:t>
            </a:r>
            <a:r>
              <a:rPr b="1" lang="pl-PL" sz="2400" spc="-1" strike="noStrike">
                <a:solidFill>
                  <a:srgbClr val="ff0000"/>
                </a:solidFill>
                <a:latin typeface="Candara"/>
              </a:rPr>
              <a:t>załącznik nr 3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0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AB6F-ACA2-453C-9B67-AC0B7EC715C9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 txBox="1"/>
          <p:nvPr/>
        </p:nvSpPr>
        <p:spPr>
          <a:xfrm>
            <a:off x="415440" y="1484280"/>
            <a:ext cx="90010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0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Opieka paliatywna i hospicyjna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1087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872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73e87"/>
                </a:solidFill>
                <a:latin typeface="Candara"/>
              </a:rPr>
              <a:t>Rozporządzenie Ministra Zdrowia z dnia 5 sierpnia 2016 r. w sprawie szczegółowych kryteriów wyboru ofert w postępowaniu w sprawie zawarcia umów o udzielanie świadczeń opieki zdrowotnej </a:t>
            </a:r>
            <a:br>
              <a:rPr sz="2200"/>
            </a:br>
            <a:r>
              <a:rPr b="1" lang="pl-PL" sz="2200" spc="-1" strike="noStrike">
                <a:solidFill>
                  <a:srgbClr val="073e87"/>
                </a:solidFill>
                <a:latin typeface="Candara"/>
              </a:rPr>
              <a:t>(Dz.U. z 2016, poz. 1372 z późniejszymi zmianami - w szczególności </a:t>
            </a:r>
            <a:br>
              <a:rPr sz="2200"/>
            </a:br>
            <a:r>
              <a:rPr b="1" lang="pl-PL" sz="2200" spc="-1" strike="noStrike">
                <a:solidFill>
                  <a:srgbClr val="073e87"/>
                </a:solidFill>
                <a:latin typeface="Candara"/>
              </a:rPr>
              <a:t>Dz. U. z 2017 r. poz. 1279)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08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Candara"/>
              </a:rPr>
              <a:t>Załącznik nr 11 </a:t>
            </a:r>
            <a:r>
              <a:rPr b="1" lang="pl-PL" sz="2000" spc="-1" strike="noStrike">
                <a:solidFill>
                  <a:srgbClr val="073e87"/>
                </a:solidFill>
                <a:latin typeface="Candara"/>
              </a:rPr>
              <a:t>–  Wykaz szczegółowych kryteriów wyboru ofert </a:t>
            </a:r>
            <a:br>
              <a:rPr sz="2000"/>
            </a:br>
            <a:r>
              <a:rPr b="1" lang="pl-PL" sz="2000" spc="-1" strike="noStrike">
                <a:solidFill>
                  <a:srgbClr val="073e87"/>
                </a:solidFill>
                <a:latin typeface="Candara"/>
              </a:rPr>
              <a:t>wraz z wyznaczającymi je warunkami oraz przypisaną im wartością w rodzaju </a:t>
            </a:r>
            <a:r>
              <a:rPr b="1" lang="pl-PL" sz="2000" spc="-1" strike="noStrike">
                <a:solidFill>
                  <a:srgbClr val="ff0000"/>
                </a:solidFill>
                <a:latin typeface="Candara"/>
              </a:rPr>
              <a:t>opieka paliatywna i hospicyjna - </a:t>
            </a:r>
            <a:r>
              <a:rPr b="1" lang="pl-PL" sz="2000" spc="-1" strike="noStrike">
                <a:solidFill>
                  <a:srgbClr val="073e87"/>
                </a:solidFill>
                <a:latin typeface="Candara"/>
              </a:rPr>
              <a:t>ze zmianami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2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C29C-0C34-4A83-9F1B-436D0F51F53F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 txBox="1"/>
          <p:nvPr/>
        </p:nvSpPr>
        <p:spPr>
          <a:xfrm>
            <a:off x="848880" y="1773000"/>
            <a:ext cx="828036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Tabela nr 1 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określa warunki dla poszczególnych zakresów świadczeń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Tabela nr 2 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określa warunki wspólne dla całego rodzaju świadczeń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862a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Kryteria wyboru ofer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862a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862aa"/>
                </a:solidFill>
                <a:latin typeface="Times New Roman"/>
              </a:rPr>
              <a:t>jakość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862a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862aa"/>
                </a:solidFill>
                <a:latin typeface="Times New Roman"/>
              </a:rPr>
              <a:t>dostępność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862a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862aa"/>
                </a:solidFill>
                <a:latin typeface="Times New Roman"/>
              </a:rPr>
              <a:t>kompleksowość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862a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862aa"/>
                </a:solidFill>
                <a:latin typeface="Times New Roman"/>
              </a:rPr>
              <a:t>cena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495000" y="2637000"/>
            <a:ext cx="89154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862aa"/>
                </a:solidFill>
                <a:latin typeface="Candara"/>
              </a:rPr>
              <a:t>Oceny ofert, według określonych kryteriów, dokonuje się odrębnie dla każdego oferowanego zakresu świadczeń opieki zdrowotnej w ramach danego postępowania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7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07AD-5944-4441-9131-A2BC40FF6720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1T20:16:07Z</dcterms:created>
  <dc:creator>katarzyna.wiktorzak</dc:creator>
  <dc:description/>
  <dc:language>en-US</dc:language>
  <cp:lastModifiedBy>Wojciech Mika</cp:lastModifiedBy>
  <cp:lastPrinted>2014-03-13T11:33:09Z</cp:lastPrinted>
  <dcterms:modified xsi:type="dcterms:W3CDTF">2019-03-15T13:18:14Z</dcterms:modified>
  <cp:revision>1282</cp:revision>
  <dc:subject/>
  <dc:title>Slajd 1</dc:title>
</cp:coreProperties>
</file>